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29.wmf" ContentType="image/x-wmf"/>
  <Override PartName="/ppt/media/image32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35.wmf" ContentType="image/x-wmf"/>
  <Override PartName="/ppt/media/image174.png" ContentType="image/png"/>
  <Override PartName="/ppt/media/image131.wmf" ContentType="image/x-wmf"/>
  <Override PartName="/ppt/media/image136.wmf" ContentType="image/x-wmf"/>
  <Override PartName="/ppt/media/image175.png" ContentType="image/png"/>
  <Override PartName="/ppt/media/image132.wmf" ContentType="image/x-wmf"/>
  <Override PartName="/ppt/media/image160.wmf" ContentType="image/x-wmf"/>
  <Override PartName="/ppt/media/image137.wmf" ContentType="image/x-wmf"/>
  <Override PartName="/ppt/media/image40.wmf" ContentType="image/x-wmf"/>
  <Override PartName="/ppt/media/image176.png" ContentType="image/png"/>
  <Override PartName="/ppt/media/image133.wmf" ContentType="image/x-wmf"/>
  <Override PartName="/ppt/media/image161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96.png" ContentType="image/png"/>
  <Override PartName="/ppt/media/image138.wmf" ContentType="image/x-wmf"/>
  <Override PartName="/ppt/media/image41.wmf" ContentType="image/x-wmf"/>
  <Override PartName="/ppt/media/image177.png" ContentType="image/png"/>
  <Override PartName="/ppt/media/image134.wmf" ContentType="image/x-wmf"/>
  <Override PartName="/ppt/media/image162.wmf" ContentType="image/x-wmf"/>
  <Override PartName="/ppt/media/image172.png" ContentType="image/png"/>
  <Override PartName="/ppt/media/image173.png" ContentType="image/png"/>
  <Override PartName="/ppt/media/image130.wmf" ContentType="image/x-wmf"/>
  <Override PartName="/ppt/media/image197.png" ContentType="image/png"/>
  <Override PartName="/ppt/media/image46.wmf" ContentType="image/x-wmf"/>
  <Override PartName="/ppt/media/image171.png" ContentType="image/png"/>
  <Override PartName="/ppt/media/image169.wmf" ContentType="image/x-wmf"/>
  <Override PartName="/ppt/media/image45.wmf" ContentType="image/x-wmf"/>
  <Override PartName="/ppt/media/image168.wmf" ContentType="image/x-wmf"/>
  <Override PartName="/ppt/media/image44.wmf" ContentType="image/x-wmf"/>
  <Override PartName="/ppt/media/image167.wmf" ContentType="image/x-wmf"/>
  <Override PartName="/ppt/media/image43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189.wmf" ContentType="image/x-wmf"/>
  <Override PartName="/ppt/media/image152.wmf" ContentType="image/x-wmf"/>
  <Override PartName="/ppt/media/image188.wmf" ContentType="image/x-wmf"/>
  <Override PartName="/ppt/media/image151.wmf" ContentType="image/x-wmf"/>
  <Override PartName="/ppt/media/image150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153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09.wmf" ContentType="image/x-wmf"/>
  <Override PartName="/ppt/media/image37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57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26.wmf" ContentType="image/x-wmf"/>
  <Override PartName="/ppt/media/image94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86.wmf" ContentType="image/x-wmf"/>
  <Override PartName="/ppt/media/image1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88D-E72E-4CBE-A0F4-006FF418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492-9FD8-4DB3-927F-F7619AA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604-5625-4D06-842E-2B43B4D6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D7D-82BE-4B06-B5BD-0F734854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A9E-61DF-4396-A9BF-F550976F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551-6AE8-4C02-98A4-37C854E4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1C5-B210-4107-8656-70E8B8EB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6FE-E519-4F91-BCD8-DADD1C5C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EA1-0219-4F65-90D0-6DABB20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5513-DC2C-49C1-8B35-290ACD8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C3C-295B-417A-A275-74E6D1E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2B5-8E75-45BC-BB35-F62510FA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BEDB-B86A-427C-AB19-12ED02653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8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7.wmf"/><Relationship Id="rId2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3.wmf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4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5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4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4.wmf"/><Relationship Id="rId2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4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4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3.wmf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1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8.wmf"/><Relationship Id="rId2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3.wmf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1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6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0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1.png"/><Relationship Id="rId2" Type="http://schemas.openxmlformats.org/officeDocument/2006/relationships/image" Target="../media/image172.png"/><Relationship Id="rId3" Type="http://schemas.openxmlformats.org/officeDocument/2006/relationships/image" Target="../media/image173.png"/><Relationship Id="rId4" Type="http://schemas.openxmlformats.org/officeDocument/2006/relationships/image" Target="../media/image174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5.png"/><Relationship Id="rId2" Type="http://schemas.openxmlformats.org/officeDocument/2006/relationships/image" Target="../media/image17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5.wmf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5.wmf"/><Relationship Id="rId2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6.png"/><Relationship Id="rId2" Type="http://schemas.openxmlformats.org/officeDocument/2006/relationships/image" Target="../media/image19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5"/>
          <p:cNvSpPr/>
          <p:nvPr/>
        </p:nvSpPr>
        <p:spPr>
          <a:xfrm>
            <a:off x="2953440" y="907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范数理论及其应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2948400" y="2133720"/>
            <a:ext cx="36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范数是比长度更为广泛的概念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范数理论主要用于研究数值方法的收敛性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稳定性及误差分析等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Object 4"/>
          <p:cNvGraphicFramePr/>
          <p:nvPr/>
        </p:nvGraphicFramePr>
        <p:xfrm>
          <a:off x="4660920" y="528480"/>
          <a:ext cx="5032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0920" y="52848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5"/>
          <p:cNvSpPr/>
          <p:nvPr/>
        </p:nvSpPr>
        <p:spPr>
          <a:xfrm>
            <a:off x="1860480" y="404640"/>
            <a:ext cx="50958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限维线性空间     上的任意两个向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范数都是等价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6"/>
          <p:cNvGraphicFramePr/>
          <p:nvPr/>
        </p:nvGraphicFramePr>
        <p:xfrm>
          <a:off x="2268360" y="5229360"/>
          <a:ext cx="6355080" cy="7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229360"/>
                    <a:ext cx="63550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1316160" y="184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不妨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"/>
          <p:cNvGraphicFramePr/>
          <p:nvPr/>
        </p:nvGraphicFramePr>
        <p:xfrm>
          <a:off x="3564000" y="1773360"/>
          <a:ext cx="278928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1773360"/>
                    <a:ext cx="278928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9"/>
          <p:cNvSpPr/>
          <p:nvPr/>
        </p:nvSpPr>
        <p:spPr>
          <a:xfrm>
            <a:off x="1394280" y="274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0"/>
          <p:cNvGraphicFramePr/>
          <p:nvPr/>
        </p:nvGraphicFramePr>
        <p:xfrm>
          <a:off x="2195640" y="2565360"/>
          <a:ext cx="4921200" cy="93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565360"/>
                    <a:ext cx="4921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11"/>
          <p:cNvSpPr/>
          <p:nvPr/>
        </p:nvSpPr>
        <p:spPr>
          <a:xfrm>
            <a:off x="142308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2"/>
          <p:cNvGraphicFramePr/>
          <p:nvPr/>
        </p:nvGraphicFramePr>
        <p:xfrm>
          <a:off x="2484360" y="3429000"/>
          <a:ext cx="5889600" cy="178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3429000"/>
                    <a:ext cx="588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13"/>
          <p:cNvSpPr/>
          <p:nvPr/>
        </p:nvSpPr>
        <p:spPr>
          <a:xfrm>
            <a:off x="1486440" y="530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1"/>
          <p:cNvSpPr/>
          <p:nvPr/>
        </p:nvSpPr>
        <p:spPr>
          <a:xfrm>
            <a:off x="826920" y="1341360"/>
            <a:ext cx="7272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例 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是       上的向量范数，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定义的        是      上的向量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25"/>
          <p:cNvGraphicFramePr/>
          <p:nvPr/>
        </p:nvGraphicFramePr>
        <p:xfrm>
          <a:off x="3564000" y="1413000"/>
          <a:ext cx="6858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41300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6"/>
          <p:cNvGraphicFramePr/>
          <p:nvPr/>
        </p:nvGraphicFramePr>
        <p:xfrm>
          <a:off x="2268360" y="1374840"/>
          <a:ext cx="8384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374840"/>
                    <a:ext cx="8384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27"/>
          <p:cNvGraphicFramePr/>
          <p:nvPr/>
        </p:nvGraphicFramePr>
        <p:xfrm>
          <a:off x="973080" y="2044800"/>
          <a:ext cx="487692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3080" y="2044800"/>
                    <a:ext cx="48769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28"/>
          <p:cNvGraphicFramePr/>
          <p:nvPr/>
        </p:nvGraphicFramePr>
        <p:xfrm>
          <a:off x="2124000" y="2876400"/>
          <a:ext cx="4697640" cy="83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2876400"/>
                    <a:ext cx="46976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30"/>
          <p:cNvGraphicFramePr/>
          <p:nvPr/>
        </p:nvGraphicFramePr>
        <p:xfrm>
          <a:off x="2649600" y="3965400"/>
          <a:ext cx="884160" cy="68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" name="Object 3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9600" y="3965400"/>
                    <a:ext cx="88416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31"/>
          <p:cNvGraphicFramePr/>
          <p:nvPr/>
        </p:nvGraphicFramePr>
        <p:xfrm>
          <a:off x="3868560" y="3965400"/>
          <a:ext cx="60984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3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68560" y="3965400"/>
                    <a:ext cx="6098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36"/>
          <p:cNvSpPr/>
          <p:nvPr/>
        </p:nvSpPr>
        <p:spPr>
          <a:xfrm>
            <a:off x="3548880" y="62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向量范数可以去构造新的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8"/>
          <p:cNvSpPr/>
          <p:nvPr/>
        </p:nvSpPr>
        <p:spPr>
          <a:xfrm>
            <a:off x="2220480" y="49370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负性、齐次性、三角不等式均可检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2"/>
          <p:cNvSpPr/>
          <p:nvPr/>
        </p:nvSpPr>
        <p:spPr>
          <a:xfrm>
            <a:off x="684360" y="1052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其一组基底，那么对于     中的任意一个向量       可唯一地表示成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66"/>
          <p:cNvGraphicFramePr/>
          <p:nvPr/>
        </p:nvGraphicFramePr>
        <p:xfrm>
          <a:off x="7770960" y="1128600"/>
          <a:ext cx="5029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0960" y="1128600"/>
                    <a:ext cx="502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73"/>
          <p:cNvGraphicFramePr/>
          <p:nvPr/>
        </p:nvGraphicFramePr>
        <p:xfrm>
          <a:off x="912960" y="976320"/>
          <a:ext cx="228600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976320"/>
                    <a:ext cx="22860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74"/>
          <p:cNvGraphicFramePr/>
          <p:nvPr/>
        </p:nvGraphicFramePr>
        <p:xfrm>
          <a:off x="4113360" y="1662120"/>
          <a:ext cx="50292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3360" y="1662120"/>
                    <a:ext cx="50292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75"/>
          <p:cNvGraphicFramePr/>
          <p:nvPr/>
        </p:nvGraphicFramePr>
        <p:xfrm>
          <a:off x="1141560" y="2119320"/>
          <a:ext cx="6933960" cy="13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7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1560" y="2119320"/>
                    <a:ext cx="69339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76"/>
          <p:cNvGraphicFramePr/>
          <p:nvPr/>
        </p:nvGraphicFramePr>
        <p:xfrm>
          <a:off x="1751040" y="3490920"/>
          <a:ext cx="652320" cy="68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1040" y="3490920"/>
                    <a:ext cx="6523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77"/>
          <p:cNvGraphicFramePr/>
          <p:nvPr/>
        </p:nvGraphicFramePr>
        <p:xfrm>
          <a:off x="2894040" y="3414600"/>
          <a:ext cx="711000" cy="63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Object 7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4040" y="3414600"/>
                    <a:ext cx="7110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78"/>
          <p:cNvGraphicFramePr/>
          <p:nvPr/>
        </p:nvGraphicFramePr>
        <p:xfrm>
          <a:off x="3351240" y="4100400"/>
          <a:ext cx="2265480" cy="83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" name="Object 7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51240" y="4100400"/>
                    <a:ext cx="22654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9"/>
          <p:cNvGraphicFramePr/>
          <p:nvPr/>
        </p:nvGraphicFramePr>
        <p:xfrm>
          <a:off x="2513160" y="4862520"/>
          <a:ext cx="838080" cy="70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2" name="Object 7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3160" y="4862520"/>
                    <a:ext cx="8380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80"/>
          <p:cNvGraphicFramePr/>
          <p:nvPr/>
        </p:nvGraphicFramePr>
        <p:xfrm>
          <a:off x="3960720" y="5014800"/>
          <a:ext cx="503280" cy="546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4" name="Object 8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60720" y="501480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82"/>
          <p:cNvGraphicFramePr/>
          <p:nvPr/>
        </p:nvGraphicFramePr>
        <p:xfrm>
          <a:off x="2502000" y="461880"/>
          <a:ext cx="503280" cy="546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6" name="Object 8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02000" y="46188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83"/>
          <p:cNvGraphicFramePr/>
          <p:nvPr/>
        </p:nvGraphicFramePr>
        <p:xfrm>
          <a:off x="3797280" y="461880"/>
          <a:ext cx="544680" cy="505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8" name="Object 8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97280" y="461880"/>
                    <a:ext cx="544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84"/>
          <p:cNvGraphicFramePr/>
          <p:nvPr/>
        </p:nvGraphicFramePr>
        <p:xfrm>
          <a:off x="5092560" y="538200"/>
          <a:ext cx="419400" cy="461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0" name="Object 8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92560" y="538200"/>
                    <a:ext cx="41940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85"/>
          <p:cNvSpPr/>
          <p:nvPr/>
        </p:nvSpPr>
        <p:spPr>
          <a:xfrm>
            <a:off x="1861200" y="40464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例 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设     数域     上的     维线性空间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5"/>
          <p:cNvSpPr/>
          <p:nvPr/>
        </p:nvSpPr>
        <p:spPr>
          <a:xfrm>
            <a:off x="684360" y="3500280"/>
            <a:ext cx="660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设         是      上的向量范数，则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定义的          是     上的向量范数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5"/>
          <p:cNvSpPr/>
          <p:nvPr/>
        </p:nvSpPr>
        <p:spPr>
          <a:xfrm>
            <a:off x="611280" y="1273320"/>
            <a:ext cx="77724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任何一个矩阵                  ，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按照某一确定法则与矩阵     相对应的一个实数，且满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16"/>
          <p:cNvGraphicFramePr/>
          <p:nvPr/>
        </p:nvGraphicFramePr>
        <p:xfrm>
          <a:off x="6935760" y="2052720"/>
          <a:ext cx="43812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5760" y="2052720"/>
                    <a:ext cx="4381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7"/>
          <p:cNvGraphicFramePr/>
          <p:nvPr/>
        </p:nvGraphicFramePr>
        <p:xfrm>
          <a:off x="763560" y="1962000"/>
          <a:ext cx="709560" cy="7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560" y="1962000"/>
                    <a:ext cx="709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8"/>
          <p:cNvSpPr/>
          <p:nvPr/>
        </p:nvSpPr>
        <p:spPr>
          <a:xfrm>
            <a:off x="324000" y="3357720"/>
            <a:ext cx="7619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非负性：当                              只有且仅有当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19"/>
          <p:cNvGraphicFramePr/>
          <p:nvPr/>
        </p:nvGraphicFramePr>
        <p:xfrm>
          <a:off x="3408480" y="3417840"/>
          <a:ext cx="296388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08480" y="3417840"/>
                    <a:ext cx="29638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20"/>
          <p:cNvGraphicFramePr/>
          <p:nvPr/>
        </p:nvGraphicFramePr>
        <p:xfrm>
          <a:off x="2039760" y="3994200"/>
          <a:ext cx="2963880" cy="76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39760" y="3994200"/>
                    <a:ext cx="29638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21"/>
          <p:cNvGraphicFramePr/>
          <p:nvPr/>
        </p:nvGraphicFramePr>
        <p:xfrm>
          <a:off x="2938320" y="4797360"/>
          <a:ext cx="3154680" cy="76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38320" y="4797360"/>
                    <a:ext cx="31546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24"/>
          <p:cNvGraphicFramePr/>
          <p:nvPr/>
        </p:nvGraphicFramePr>
        <p:xfrm>
          <a:off x="5259240" y="1341360"/>
          <a:ext cx="1641600" cy="58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59240" y="1341360"/>
                    <a:ext cx="16416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25"/>
          <p:cNvSpPr/>
          <p:nvPr/>
        </p:nvSpPr>
        <p:spPr>
          <a:xfrm>
            <a:off x="2484360" y="333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矩阵范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1195200" y="4883040"/>
            <a:ext cx="66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齐次性：                             为任意复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95280" y="29242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矩阵乘法的相容性：对于任意两个可以相乘的矩阵           ，都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2604960" y="3381480"/>
          <a:ext cx="1006560" cy="63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4960" y="3381480"/>
                    <a:ext cx="100656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2968560" y="4067280"/>
          <a:ext cx="2979720" cy="83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8560" y="4067280"/>
                    <a:ext cx="29797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5"/>
          <p:cNvGraphicFramePr/>
          <p:nvPr/>
        </p:nvGraphicFramePr>
        <p:xfrm>
          <a:off x="2627280" y="5037120"/>
          <a:ext cx="79704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5037120"/>
                    <a:ext cx="7970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6"/>
          <p:cNvGraphicFramePr/>
          <p:nvPr/>
        </p:nvGraphicFramePr>
        <p:xfrm>
          <a:off x="4753080" y="5100480"/>
          <a:ext cx="49212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53080" y="5100480"/>
                    <a:ext cx="4921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3"/>
          <p:cNvGraphicFramePr/>
          <p:nvPr/>
        </p:nvGraphicFramePr>
        <p:xfrm>
          <a:off x="1908000" y="1168560"/>
          <a:ext cx="1006560" cy="63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1168560"/>
                    <a:ext cx="100656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4"/>
          <p:cNvGraphicFramePr/>
          <p:nvPr/>
        </p:nvGraphicFramePr>
        <p:xfrm>
          <a:off x="2124000" y="1916280"/>
          <a:ext cx="3859200" cy="83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1916280"/>
                    <a:ext cx="385920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5"/>
          <p:cNvSpPr/>
          <p:nvPr/>
        </p:nvSpPr>
        <p:spPr>
          <a:xfrm>
            <a:off x="1798200" y="476280"/>
            <a:ext cx="5095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三角不等式：对于任意两个同型矩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1411920" y="51498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我们称         是矩阵    的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范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250920" y="3429000"/>
            <a:ext cx="8893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证明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需要验证满足矩阵范数的四条性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负性，齐次性与三角不等式容易证明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1476360" y="5589720"/>
          <a:ext cx="373068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589720"/>
                    <a:ext cx="37306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5"/>
          <p:cNvGraphicFramePr/>
          <p:nvPr/>
        </p:nvGraphicFramePr>
        <p:xfrm>
          <a:off x="3252960" y="501480"/>
          <a:ext cx="1742760" cy="61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2960" y="501480"/>
                    <a:ext cx="17427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2719440" y="1155600"/>
          <a:ext cx="2932200" cy="13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9440" y="1155600"/>
                    <a:ext cx="293220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6915240" y="2627280"/>
          <a:ext cx="465120" cy="50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15240" y="2627280"/>
                    <a:ext cx="4651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8"/>
          <p:cNvGraphicFramePr/>
          <p:nvPr/>
        </p:nvGraphicFramePr>
        <p:xfrm>
          <a:off x="4095720" y="2490840"/>
          <a:ext cx="75240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95720" y="2490840"/>
                    <a:ext cx="752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9"/>
          <p:cNvSpPr/>
          <p:nvPr/>
        </p:nvSpPr>
        <p:spPr>
          <a:xfrm>
            <a:off x="2800080" y="256536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证明如此定义的       的确为矩阵     的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963360" y="549360"/>
            <a:ext cx="47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例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任意                 ，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1289160" y="5661000"/>
            <a:ext cx="49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                                     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211560" y="4797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验证乘法的相容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395280" y="404640"/>
          <a:ext cx="457056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45705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3"/>
          <p:cNvGraphicFramePr/>
          <p:nvPr/>
        </p:nvGraphicFramePr>
        <p:xfrm>
          <a:off x="1332000" y="3573360"/>
          <a:ext cx="4991040" cy="147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573360"/>
                    <a:ext cx="499104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5003640" y="476280"/>
          <a:ext cx="3775320" cy="14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476280"/>
                    <a:ext cx="37753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403280" y="2060640"/>
          <a:ext cx="5284800" cy="14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2060640"/>
                    <a:ext cx="5284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6"/>
          <p:cNvGraphicFramePr/>
          <p:nvPr/>
        </p:nvGraphicFramePr>
        <p:xfrm>
          <a:off x="1403280" y="5229360"/>
          <a:ext cx="1887480" cy="83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5229360"/>
                    <a:ext cx="188748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684360" y="40464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矩阵                    ，证明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矩阵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3373560" y="304920"/>
          <a:ext cx="1803240" cy="65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3560" y="304920"/>
                    <a:ext cx="180324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2819520" y="1143000"/>
          <a:ext cx="3273480" cy="105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143000"/>
                    <a:ext cx="32734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1187280" y="4941720"/>
          <a:ext cx="36878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4941720"/>
                    <a:ext cx="36878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6"/>
          <p:cNvSpPr/>
          <p:nvPr/>
        </p:nvSpPr>
        <p:spPr>
          <a:xfrm>
            <a:off x="539640" y="50133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                                   ，那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371400" y="4292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我们考虑乘法的相容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595400" y="3357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非负性，齐次性和三角不等式容易证得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Object 2"/>
          <p:cNvGraphicFramePr/>
          <p:nvPr/>
        </p:nvGraphicFramePr>
        <p:xfrm>
          <a:off x="468360" y="333360"/>
          <a:ext cx="46562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46562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3"/>
          <p:cNvSpPr/>
          <p:nvPr/>
        </p:nvSpPr>
        <p:spPr>
          <a:xfrm>
            <a:off x="395280" y="53737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         为矩阵     的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1447920" y="5257800"/>
          <a:ext cx="79668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257800"/>
                    <a:ext cx="7966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5"/>
          <p:cNvGraphicFramePr/>
          <p:nvPr/>
        </p:nvGraphicFramePr>
        <p:xfrm>
          <a:off x="3505320" y="5334120"/>
          <a:ext cx="4921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334120"/>
                    <a:ext cx="492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6"/>
          <p:cNvGraphicFramePr/>
          <p:nvPr/>
        </p:nvGraphicFramePr>
        <p:xfrm>
          <a:off x="5076720" y="404640"/>
          <a:ext cx="3816360" cy="142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404640"/>
                    <a:ext cx="381636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7"/>
          <p:cNvGraphicFramePr/>
          <p:nvPr/>
        </p:nvGraphicFramePr>
        <p:xfrm>
          <a:off x="1763640" y="2060640"/>
          <a:ext cx="4656240" cy="104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2060640"/>
                    <a:ext cx="465624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8"/>
          <p:cNvGraphicFramePr/>
          <p:nvPr/>
        </p:nvGraphicFramePr>
        <p:xfrm>
          <a:off x="1835280" y="2997360"/>
          <a:ext cx="4655880" cy="104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5280" y="2997360"/>
                    <a:ext cx="46558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9"/>
          <p:cNvGraphicFramePr/>
          <p:nvPr/>
        </p:nvGraphicFramePr>
        <p:xfrm>
          <a:off x="1835280" y="4221000"/>
          <a:ext cx="1887480" cy="83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35280" y="4221000"/>
                    <a:ext cx="18874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533520" y="304920"/>
            <a:ext cx="81532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任意                   ，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证明        也是矩阵     的范数。我们称此范数为矩阵      的</a:t>
            </a:r>
            <a:r>
              <a:rPr b="1" lang="en-US" sz="3600" spc="-1" strike="noStrike">
                <a:solidFill>
                  <a:srgbClr val="2d2d8a"/>
                </a:solidFill>
                <a:latin typeface="Times New Roman"/>
              </a:rPr>
              <a:t>Frobenious</a:t>
            </a:r>
            <a:r>
              <a:rPr b="1" lang="zh-CN" sz="3600" spc="-1" strike="noStrike">
                <a:solidFill>
                  <a:srgbClr val="2d2d8a"/>
                </a:solidFill>
                <a:latin typeface="Times New Roman"/>
              </a:rPr>
              <a:t>范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3886200" y="228600"/>
          <a:ext cx="18446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8600"/>
                    <a:ext cx="18446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4"/>
          <p:cNvGraphicFramePr/>
          <p:nvPr/>
        </p:nvGraphicFramePr>
        <p:xfrm>
          <a:off x="2417760" y="846000"/>
          <a:ext cx="4098960" cy="13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7760" y="846000"/>
                    <a:ext cx="409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2286000" y="2133720"/>
          <a:ext cx="797040" cy="83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133720"/>
                    <a:ext cx="79704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6"/>
          <p:cNvGraphicFramePr/>
          <p:nvPr/>
        </p:nvGraphicFramePr>
        <p:xfrm>
          <a:off x="4648320" y="2286000"/>
          <a:ext cx="49212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286000"/>
                    <a:ext cx="492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7"/>
          <p:cNvGraphicFramePr/>
          <p:nvPr/>
        </p:nvGraphicFramePr>
        <p:xfrm>
          <a:off x="2666880" y="2743200"/>
          <a:ext cx="49212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2743200"/>
                    <a:ext cx="492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8"/>
          <p:cNvGraphicFramePr/>
          <p:nvPr/>
        </p:nvGraphicFramePr>
        <p:xfrm>
          <a:off x="1619280" y="5877000"/>
          <a:ext cx="3565440" cy="69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6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9280" y="5877000"/>
                    <a:ext cx="35654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9"/>
          <p:cNvSpPr/>
          <p:nvPr/>
        </p:nvSpPr>
        <p:spPr>
          <a:xfrm>
            <a:off x="1413000" y="595008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                                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228480" y="5157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我们验证乘法的相容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3218760" y="4508640"/>
            <a:ext cx="31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kowsk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等式容易证明三角不等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285080" y="36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此定义的非负性，齐次性是显然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5"/>
          <p:cNvSpPr/>
          <p:nvPr/>
        </p:nvSpPr>
        <p:spPr>
          <a:xfrm>
            <a:off x="15840" y="270504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1"/>
          <p:cNvSpPr/>
          <p:nvPr/>
        </p:nvSpPr>
        <p:spPr>
          <a:xfrm>
            <a:off x="550800" y="523224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三角不等式：对于     中的任意两个向量           都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62"/>
          <p:cNvGraphicFramePr/>
          <p:nvPr/>
        </p:nvGraphicFramePr>
        <p:xfrm>
          <a:off x="5046840" y="5308560"/>
          <a:ext cx="5029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6840" y="5308560"/>
                    <a:ext cx="502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63"/>
          <p:cNvGraphicFramePr/>
          <p:nvPr/>
        </p:nvGraphicFramePr>
        <p:xfrm>
          <a:off x="1487520" y="5672160"/>
          <a:ext cx="10065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6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87520" y="5672160"/>
                    <a:ext cx="1006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64"/>
          <p:cNvGraphicFramePr/>
          <p:nvPr/>
        </p:nvGraphicFramePr>
        <p:xfrm>
          <a:off x="3430440" y="5737320"/>
          <a:ext cx="327672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0440" y="5737320"/>
                    <a:ext cx="32767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70"/>
          <p:cNvSpPr/>
          <p:nvPr/>
        </p:nvSpPr>
        <p:spPr>
          <a:xfrm>
            <a:off x="324000" y="83808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是实数域     （或复数域      ）上的     维线性空间，对于     中的任意一个向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照某一确定法则对应着一个实数，这个实数称为       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范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记为        ，并且要求范数满足下列运算条件：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71"/>
          <p:cNvGraphicFramePr/>
          <p:nvPr/>
        </p:nvGraphicFramePr>
        <p:xfrm>
          <a:off x="2430360" y="868320"/>
          <a:ext cx="5032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Object 7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0360" y="86832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72"/>
          <p:cNvGraphicFramePr/>
          <p:nvPr/>
        </p:nvGraphicFramePr>
        <p:xfrm>
          <a:off x="4640400" y="868320"/>
          <a:ext cx="50328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Object 7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0400" y="868320"/>
                    <a:ext cx="50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73"/>
          <p:cNvGraphicFramePr/>
          <p:nvPr/>
        </p:nvGraphicFramePr>
        <p:xfrm>
          <a:off x="828720" y="1413000"/>
          <a:ext cx="4190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Object 7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8720" y="1413000"/>
                    <a:ext cx="41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74"/>
          <p:cNvGraphicFramePr/>
          <p:nvPr/>
        </p:nvGraphicFramePr>
        <p:xfrm>
          <a:off x="4645080" y="1341360"/>
          <a:ext cx="503280" cy="546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" name="Object 7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5080" y="134136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75"/>
          <p:cNvGraphicFramePr/>
          <p:nvPr/>
        </p:nvGraphicFramePr>
        <p:xfrm>
          <a:off x="2124000" y="2421000"/>
          <a:ext cx="503280" cy="461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24000" y="2421000"/>
                    <a:ext cx="503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76"/>
          <p:cNvGraphicFramePr/>
          <p:nvPr/>
        </p:nvGraphicFramePr>
        <p:xfrm>
          <a:off x="539640" y="1917720"/>
          <a:ext cx="503280" cy="461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" name="Object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9640" y="1917720"/>
                    <a:ext cx="503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77"/>
          <p:cNvGraphicFramePr/>
          <p:nvPr/>
        </p:nvGraphicFramePr>
        <p:xfrm>
          <a:off x="5221440" y="2259000"/>
          <a:ext cx="745920" cy="78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5" name="Object 7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21440" y="2259000"/>
                    <a:ext cx="745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78"/>
          <p:cNvGraphicFramePr/>
          <p:nvPr/>
        </p:nvGraphicFramePr>
        <p:xfrm>
          <a:off x="6975360" y="836640"/>
          <a:ext cx="503280" cy="587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75360" y="836640"/>
                    <a:ext cx="5032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79"/>
          <p:cNvGraphicFramePr/>
          <p:nvPr/>
        </p:nvGraphicFramePr>
        <p:xfrm>
          <a:off x="3790800" y="3224160"/>
          <a:ext cx="3059280" cy="784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9" name="Object 7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90800" y="3224160"/>
                    <a:ext cx="30592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80"/>
          <p:cNvGraphicFramePr/>
          <p:nvPr/>
        </p:nvGraphicFramePr>
        <p:xfrm>
          <a:off x="3214800" y="3800520"/>
          <a:ext cx="3058920" cy="784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" name="Object 80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214800" y="3800520"/>
                    <a:ext cx="30589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81"/>
          <p:cNvGraphicFramePr/>
          <p:nvPr/>
        </p:nvGraphicFramePr>
        <p:xfrm>
          <a:off x="3363840" y="4540320"/>
          <a:ext cx="3224160" cy="760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" name="Object 8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363840" y="4540320"/>
                    <a:ext cx="322416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82"/>
          <p:cNvSpPr/>
          <p:nvPr/>
        </p:nvSpPr>
        <p:spPr>
          <a:xfrm>
            <a:off x="1571040" y="4584600"/>
            <a:ext cx="639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齐次性：                             为任意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3"/>
          <p:cNvSpPr/>
          <p:nvPr/>
        </p:nvSpPr>
        <p:spPr>
          <a:xfrm>
            <a:off x="1152360" y="3289320"/>
            <a:ext cx="55674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非负性：当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且仅有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3556800" y="101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向量范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324000" y="260280"/>
          <a:ext cx="4829040" cy="14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4829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3"/>
          <p:cNvSpPr/>
          <p:nvPr/>
        </p:nvSpPr>
        <p:spPr>
          <a:xfrm>
            <a:off x="457200" y="5715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411280" y="5589720"/>
          <a:ext cx="350532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5589720"/>
                    <a:ext cx="35053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5"/>
          <p:cNvGraphicFramePr/>
          <p:nvPr/>
        </p:nvGraphicFramePr>
        <p:xfrm>
          <a:off x="5132520" y="404640"/>
          <a:ext cx="4011480" cy="136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2520" y="404640"/>
                    <a:ext cx="401148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6"/>
          <p:cNvGraphicFramePr/>
          <p:nvPr/>
        </p:nvGraphicFramePr>
        <p:xfrm>
          <a:off x="1908000" y="1773360"/>
          <a:ext cx="5297760" cy="13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773360"/>
                    <a:ext cx="52977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7"/>
          <p:cNvGraphicFramePr/>
          <p:nvPr/>
        </p:nvGraphicFramePr>
        <p:xfrm>
          <a:off x="1979640" y="3068640"/>
          <a:ext cx="5064120" cy="136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3068640"/>
                    <a:ext cx="50641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8"/>
          <p:cNvGraphicFramePr/>
          <p:nvPr/>
        </p:nvGraphicFramePr>
        <p:xfrm>
          <a:off x="1979640" y="4508640"/>
          <a:ext cx="2530440" cy="85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4508640"/>
                    <a:ext cx="253044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390600" y="635040"/>
            <a:ext cx="727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任意                    ，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如此定义的        是矩阵     的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3438360" y="558720"/>
          <a:ext cx="176400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8360" y="558720"/>
                    <a:ext cx="17640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5"/>
          <p:cNvGraphicFramePr/>
          <p:nvPr/>
        </p:nvGraphicFramePr>
        <p:xfrm>
          <a:off x="2295360" y="1092240"/>
          <a:ext cx="373248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5360" y="1092240"/>
                    <a:ext cx="37324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6"/>
          <p:cNvGraphicFramePr/>
          <p:nvPr/>
        </p:nvGraphicFramePr>
        <p:xfrm>
          <a:off x="3348000" y="2060640"/>
          <a:ext cx="79704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2060640"/>
                    <a:ext cx="7970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7"/>
          <p:cNvGraphicFramePr/>
          <p:nvPr/>
        </p:nvGraphicFramePr>
        <p:xfrm>
          <a:off x="5343480" y="2082960"/>
          <a:ext cx="49212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43480" y="2082960"/>
                    <a:ext cx="492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8"/>
          <p:cNvGraphicFramePr/>
          <p:nvPr/>
        </p:nvGraphicFramePr>
        <p:xfrm>
          <a:off x="1260360" y="3718080"/>
          <a:ext cx="5915160" cy="14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0360" y="3718080"/>
                    <a:ext cx="591516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10"/>
          <p:cNvSpPr/>
          <p:nvPr/>
        </p:nvSpPr>
        <p:spPr>
          <a:xfrm>
            <a:off x="2303280" y="51577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上一个例题可知此定义满足范数的性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2365920" y="3213000"/>
            <a:ext cx="435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 首先注意到这样一个基本事实，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-181080" y="836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如果                                        ，那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4"/>
          <p:cNvGraphicFramePr/>
          <p:nvPr/>
        </p:nvGraphicFramePr>
        <p:xfrm>
          <a:off x="1835280" y="763560"/>
          <a:ext cx="38890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763560"/>
                    <a:ext cx="38890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5"/>
          <p:cNvGraphicFramePr/>
          <p:nvPr/>
        </p:nvGraphicFramePr>
        <p:xfrm>
          <a:off x="2395440" y="1339920"/>
          <a:ext cx="2824200" cy="11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5440" y="1339920"/>
                    <a:ext cx="28242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Object 6"/>
          <p:cNvGraphicFramePr/>
          <p:nvPr/>
        </p:nvGraphicFramePr>
        <p:xfrm>
          <a:off x="947880" y="2349360"/>
          <a:ext cx="542448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7880" y="2349360"/>
                    <a:ext cx="542448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Rectangle 11"/>
          <p:cNvSpPr/>
          <p:nvPr/>
        </p:nvSpPr>
        <p:spPr>
          <a:xfrm>
            <a:off x="-114120" y="263196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3008880" y="115920"/>
            <a:ext cx="37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obenious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范数的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Object 8"/>
          <p:cNvGraphicFramePr/>
          <p:nvPr/>
        </p:nvGraphicFramePr>
        <p:xfrm>
          <a:off x="7896240" y="3616200"/>
          <a:ext cx="49212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96240" y="3616200"/>
                    <a:ext cx="49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9"/>
          <p:cNvGraphicFramePr/>
          <p:nvPr/>
        </p:nvGraphicFramePr>
        <p:xfrm>
          <a:off x="2268360" y="4154400"/>
          <a:ext cx="662472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4154400"/>
                    <a:ext cx="66247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6"/>
          <p:cNvSpPr/>
          <p:nvPr/>
        </p:nvSpPr>
        <p:spPr>
          <a:xfrm>
            <a:off x="795240" y="414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有等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7"/>
          <p:cNvGraphicFramePr/>
          <p:nvPr/>
        </p:nvGraphicFramePr>
        <p:xfrm>
          <a:off x="5753160" y="3605040"/>
          <a:ext cx="419040" cy="462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53160" y="3605040"/>
                    <a:ext cx="41904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8"/>
          <p:cNvGraphicFramePr/>
          <p:nvPr/>
        </p:nvGraphicFramePr>
        <p:xfrm>
          <a:off x="2705040" y="3605040"/>
          <a:ext cx="544680" cy="46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5040" y="3605040"/>
                    <a:ext cx="54468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9"/>
          <p:cNvGraphicFramePr/>
          <p:nvPr/>
        </p:nvGraphicFramePr>
        <p:xfrm>
          <a:off x="4915080" y="3605040"/>
          <a:ext cx="53316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5080" y="3605040"/>
                    <a:ext cx="533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997200" y="3567240"/>
            <a:ext cx="57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对于任何     阶酉矩阵     与    阶酉矩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11"/>
          <p:cNvGraphicFramePr/>
          <p:nvPr/>
        </p:nvGraphicFramePr>
        <p:xfrm>
          <a:off x="1692360" y="5062680"/>
          <a:ext cx="3816360" cy="87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9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92360" y="5062680"/>
                    <a:ext cx="38163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 Box 12"/>
          <p:cNvSpPr/>
          <p:nvPr/>
        </p:nvSpPr>
        <p:spPr>
          <a:xfrm>
            <a:off x="750240" y="5154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14"/>
          <p:cNvGraphicFramePr/>
          <p:nvPr/>
        </p:nvGraphicFramePr>
        <p:xfrm>
          <a:off x="2795760" y="5832360"/>
          <a:ext cx="5448240" cy="765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2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95760" y="5832360"/>
                    <a:ext cx="5448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4"/>
          <p:cNvSpPr/>
          <p:nvPr/>
        </p:nvSpPr>
        <p:spPr>
          <a:xfrm>
            <a:off x="396720" y="765000"/>
            <a:ext cx="80773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      是矩阵     的任意两种范数，则总存在正数                使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7"/>
          <p:cNvGraphicFramePr/>
          <p:nvPr/>
        </p:nvGraphicFramePr>
        <p:xfrm>
          <a:off x="2500200" y="741240"/>
          <a:ext cx="21430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741240"/>
                    <a:ext cx="2143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8"/>
          <p:cNvGraphicFramePr/>
          <p:nvPr/>
        </p:nvGraphicFramePr>
        <p:xfrm>
          <a:off x="4606920" y="1473120"/>
          <a:ext cx="15494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6920" y="1473120"/>
                    <a:ext cx="15494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9"/>
          <p:cNvGraphicFramePr/>
          <p:nvPr/>
        </p:nvGraphicFramePr>
        <p:xfrm>
          <a:off x="5940360" y="836640"/>
          <a:ext cx="4921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836640"/>
                    <a:ext cx="492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10"/>
          <p:cNvGraphicFramePr/>
          <p:nvPr/>
        </p:nvGraphicFramePr>
        <p:xfrm>
          <a:off x="1168560" y="2100240"/>
          <a:ext cx="6643440" cy="7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8560" y="2100240"/>
                    <a:ext cx="66434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12"/>
          <p:cNvSpPr/>
          <p:nvPr/>
        </p:nvSpPr>
        <p:spPr>
          <a:xfrm>
            <a:off x="1237680" y="189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矩阵范数的等价性定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13"/>
          <p:cNvGraphicFramePr/>
          <p:nvPr/>
        </p:nvGraphicFramePr>
        <p:xfrm>
          <a:off x="2249640" y="6021360"/>
          <a:ext cx="6107040" cy="74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49640" y="6021360"/>
                    <a:ext cx="61070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Text Box 14"/>
          <p:cNvSpPr/>
          <p:nvPr/>
        </p:nvSpPr>
        <p:spPr>
          <a:xfrm>
            <a:off x="1316160" y="29289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不妨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5"/>
          <p:cNvGraphicFramePr/>
          <p:nvPr/>
        </p:nvGraphicFramePr>
        <p:xfrm>
          <a:off x="3564000" y="2892600"/>
          <a:ext cx="2663640" cy="74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2892600"/>
                    <a:ext cx="26636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 Box 16"/>
          <p:cNvSpPr/>
          <p:nvPr/>
        </p:nvSpPr>
        <p:spPr>
          <a:xfrm>
            <a:off x="1394280" y="383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7"/>
          <p:cNvGraphicFramePr/>
          <p:nvPr/>
        </p:nvGraphicFramePr>
        <p:xfrm>
          <a:off x="2195640" y="3691080"/>
          <a:ext cx="4700520" cy="89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5640" y="3691080"/>
                    <a:ext cx="4700520" cy="89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Text Box 18"/>
          <p:cNvSpPr/>
          <p:nvPr/>
        </p:nvSpPr>
        <p:spPr>
          <a:xfrm>
            <a:off x="1423080" y="4941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9"/>
          <p:cNvGraphicFramePr/>
          <p:nvPr/>
        </p:nvGraphicFramePr>
        <p:xfrm>
          <a:off x="2484360" y="4508640"/>
          <a:ext cx="5624640" cy="1589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84360" y="4508640"/>
                    <a:ext cx="562464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Text Box 20"/>
          <p:cNvSpPr/>
          <p:nvPr/>
        </p:nvSpPr>
        <p:spPr>
          <a:xfrm>
            <a:off x="1486440" y="6058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316080" y="1628640"/>
            <a:ext cx="80769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是向量范数，        是矩阵范数，如果对于任何矩阵     与向量      都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3"/>
          <p:cNvGraphicFramePr/>
          <p:nvPr/>
        </p:nvGraphicFramePr>
        <p:xfrm>
          <a:off x="2351160" y="1706400"/>
          <a:ext cx="9176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1706400"/>
                    <a:ext cx="9176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5"/>
          <p:cNvGraphicFramePr/>
          <p:nvPr/>
        </p:nvGraphicFramePr>
        <p:xfrm>
          <a:off x="5627520" y="1620720"/>
          <a:ext cx="95436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7520" y="1620720"/>
                    <a:ext cx="95436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6"/>
          <p:cNvGraphicFramePr/>
          <p:nvPr/>
        </p:nvGraphicFramePr>
        <p:xfrm>
          <a:off x="4492800" y="2349360"/>
          <a:ext cx="4921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2800" y="2349360"/>
                    <a:ext cx="4921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7"/>
          <p:cNvGraphicFramePr/>
          <p:nvPr/>
        </p:nvGraphicFramePr>
        <p:xfrm>
          <a:off x="6221520" y="2421000"/>
          <a:ext cx="5857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1520" y="2421000"/>
                    <a:ext cx="585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8"/>
          <p:cNvGraphicFramePr/>
          <p:nvPr/>
        </p:nvGraphicFramePr>
        <p:xfrm>
          <a:off x="2627280" y="3151080"/>
          <a:ext cx="356544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3151080"/>
                    <a:ext cx="35654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9"/>
          <p:cNvGraphicFramePr/>
          <p:nvPr/>
        </p:nvGraphicFramePr>
        <p:xfrm>
          <a:off x="1252440" y="4152960"/>
          <a:ext cx="936720" cy="860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2440" y="4152960"/>
                    <a:ext cx="9367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10"/>
          <p:cNvGraphicFramePr/>
          <p:nvPr/>
        </p:nvGraphicFramePr>
        <p:xfrm>
          <a:off x="4781520" y="4151160"/>
          <a:ext cx="1008000" cy="77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81520" y="4151160"/>
                    <a:ext cx="10080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12"/>
          <p:cNvSpPr/>
          <p:nvPr/>
        </p:nvSpPr>
        <p:spPr>
          <a:xfrm>
            <a:off x="2997360" y="4046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导范数（算子范数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1612800" y="4233960"/>
            <a:ext cx="62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称         为与向量范数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容的矩阵范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Object 2"/>
          <p:cNvGraphicFramePr/>
          <p:nvPr/>
        </p:nvGraphicFramePr>
        <p:xfrm>
          <a:off x="1979640" y="1989000"/>
          <a:ext cx="5040360" cy="11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89000"/>
                    <a:ext cx="504036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3"/>
          <p:cNvSpPr/>
          <p:nvPr/>
        </p:nvSpPr>
        <p:spPr>
          <a:xfrm>
            <a:off x="539640" y="31370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ld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等式可以得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5"/>
          <p:cNvGraphicFramePr/>
          <p:nvPr/>
        </p:nvGraphicFramePr>
        <p:xfrm>
          <a:off x="2916360" y="836640"/>
          <a:ext cx="3600360" cy="13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836640"/>
                    <a:ext cx="360036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6"/>
          <p:cNvSpPr/>
          <p:nvPr/>
        </p:nvSpPr>
        <p:spPr>
          <a:xfrm>
            <a:off x="788400" y="1268280"/>
            <a:ext cx="1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145520" y="260280"/>
            <a:ext cx="680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阵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beniu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范数与向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范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相容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7"/>
          <p:cNvGraphicFramePr/>
          <p:nvPr/>
        </p:nvGraphicFramePr>
        <p:xfrm>
          <a:off x="179280" y="3610080"/>
          <a:ext cx="3637080" cy="13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610080"/>
                    <a:ext cx="36370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3"/>
          <p:cNvGraphicFramePr/>
          <p:nvPr/>
        </p:nvGraphicFramePr>
        <p:xfrm>
          <a:off x="3157560" y="6184800"/>
          <a:ext cx="2827440" cy="62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57560" y="6184800"/>
                    <a:ext cx="28274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4"/>
          <p:cNvSpPr/>
          <p:nvPr/>
        </p:nvSpPr>
        <p:spPr>
          <a:xfrm>
            <a:off x="1508040" y="61801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Object 9"/>
          <p:cNvGraphicFramePr/>
          <p:nvPr/>
        </p:nvGraphicFramePr>
        <p:xfrm>
          <a:off x="3708360" y="3774960"/>
          <a:ext cx="2719440" cy="11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3774960"/>
                    <a:ext cx="27194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6"/>
          <p:cNvGraphicFramePr/>
          <p:nvPr/>
        </p:nvGraphicFramePr>
        <p:xfrm>
          <a:off x="108000" y="4983120"/>
          <a:ext cx="3600360" cy="112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8000" y="4983120"/>
                    <a:ext cx="360036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8"/>
          <p:cNvGraphicFramePr/>
          <p:nvPr/>
        </p:nvGraphicFramePr>
        <p:xfrm>
          <a:off x="3635280" y="4979880"/>
          <a:ext cx="3384720" cy="109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4979880"/>
                    <a:ext cx="3384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8"/>
          <p:cNvGraphicFramePr/>
          <p:nvPr/>
        </p:nvGraphicFramePr>
        <p:xfrm>
          <a:off x="6948360" y="5143680"/>
          <a:ext cx="2087640" cy="718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1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5143680"/>
                    <a:ext cx="2087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611280" y="2565360"/>
            <a:ext cx="77724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满足矩阵范数的定义，且        是与向量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容的矩阵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4"/>
          <p:cNvGraphicFramePr/>
          <p:nvPr/>
        </p:nvGraphicFramePr>
        <p:xfrm>
          <a:off x="2509920" y="584280"/>
          <a:ext cx="101124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584280"/>
                    <a:ext cx="10112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5"/>
          <p:cNvGraphicFramePr/>
          <p:nvPr/>
        </p:nvGraphicFramePr>
        <p:xfrm>
          <a:off x="2771640" y="1197000"/>
          <a:ext cx="32403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197000"/>
                    <a:ext cx="32403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5238720" y="2492280"/>
          <a:ext cx="81756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38720" y="2492280"/>
                    <a:ext cx="81756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7"/>
          <p:cNvGraphicFramePr/>
          <p:nvPr/>
        </p:nvGraphicFramePr>
        <p:xfrm>
          <a:off x="755640" y="3141720"/>
          <a:ext cx="9428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3141720"/>
                    <a:ext cx="9428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Rectangle 9"/>
          <p:cNvSpPr/>
          <p:nvPr/>
        </p:nvSpPr>
        <p:spPr>
          <a:xfrm>
            <a:off x="3444120" y="5877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在考虑矩阵范数的相容性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2202120" y="51577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负性，齐次性与三角不等式易证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2186640" y="400536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首先我们验证此定义满足范数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条性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1493640" y="692280"/>
            <a:ext cx="46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         是向量的范数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539640" y="189000"/>
            <a:ext cx="33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，那么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Object 3"/>
          <p:cNvGraphicFramePr/>
          <p:nvPr/>
        </p:nvGraphicFramePr>
        <p:xfrm>
          <a:off x="1149480" y="264960"/>
          <a:ext cx="10666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9480" y="264960"/>
                    <a:ext cx="1066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4"/>
          <p:cNvGraphicFramePr/>
          <p:nvPr/>
        </p:nvGraphicFramePr>
        <p:xfrm>
          <a:off x="250920" y="1050840"/>
          <a:ext cx="3192480" cy="11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50840"/>
                    <a:ext cx="319248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5"/>
          <p:cNvSpPr/>
          <p:nvPr/>
        </p:nvSpPr>
        <p:spPr>
          <a:xfrm>
            <a:off x="395280" y="3429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        的确满足矩阵范数的定义。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Object 6"/>
          <p:cNvGraphicFramePr/>
          <p:nvPr/>
        </p:nvGraphicFramePr>
        <p:xfrm>
          <a:off x="1386000" y="3435480"/>
          <a:ext cx="67608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3435480"/>
                    <a:ext cx="6760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Object 7"/>
          <p:cNvGraphicFramePr/>
          <p:nvPr/>
        </p:nvGraphicFramePr>
        <p:xfrm>
          <a:off x="3492360" y="1052640"/>
          <a:ext cx="3888000" cy="121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1052640"/>
                    <a:ext cx="3888000" cy="12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8"/>
          <p:cNvGraphicFramePr/>
          <p:nvPr/>
        </p:nvGraphicFramePr>
        <p:xfrm>
          <a:off x="1187280" y="2205000"/>
          <a:ext cx="4411800" cy="122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2205000"/>
                    <a:ext cx="44118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10"/>
          <p:cNvGraphicFramePr/>
          <p:nvPr/>
        </p:nvGraphicFramePr>
        <p:xfrm>
          <a:off x="5724360" y="2509920"/>
          <a:ext cx="1729080" cy="67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8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24360" y="2509920"/>
                    <a:ext cx="1729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Rectangle 2"/>
          <p:cNvSpPr/>
          <p:nvPr/>
        </p:nvSpPr>
        <p:spPr>
          <a:xfrm>
            <a:off x="179280" y="4229280"/>
            <a:ext cx="62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后证明         与          是相容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8"/>
          <p:cNvGraphicFramePr/>
          <p:nvPr/>
        </p:nvGraphicFramePr>
        <p:xfrm>
          <a:off x="2068560" y="4156200"/>
          <a:ext cx="745920" cy="71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68560" y="4156200"/>
                    <a:ext cx="7459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11"/>
          <p:cNvGraphicFramePr/>
          <p:nvPr/>
        </p:nvGraphicFramePr>
        <p:xfrm>
          <a:off x="3287880" y="4156200"/>
          <a:ext cx="923760" cy="712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87880" y="4156200"/>
                    <a:ext cx="9237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5"/>
          <p:cNvGraphicFramePr/>
          <p:nvPr/>
        </p:nvGraphicFramePr>
        <p:xfrm>
          <a:off x="3516480" y="4805280"/>
          <a:ext cx="2333520" cy="128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5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16480" y="4805280"/>
                    <a:ext cx="2333520" cy="12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13"/>
          <p:cNvGraphicFramePr/>
          <p:nvPr/>
        </p:nvGraphicFramePr>
        <p:xfrm>
          <a:off x="1844640" y="6029280"/>
          <a:ext cx="746280" cy="712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4640" y="6029280"/>
                    <a:ext cx="74628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4"/>
          <p:cNvGraphicFramePr/>
          <p:nvPr/>
        </p:nvGraphicFramePr>
        <p:xfrm>
          <a:off x="3216240" y="6029280"/>
          <a:ext cx="924120" cy="71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16240" y="6029280"/>
                    <a:ext cx="9241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Rectangle 10"/>
          <p:cNvSpPr/>
          <p:nvPr/>
        </p:nvSpPr>
        <p:spPr>
          <a:xfrm>
            <a:off x="1644840" y="6029280"/>
            <a:ext cx="36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说明        与         是相容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831240" y="50925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上面的结论可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12"/>
          <p:cNvGraphicFramePr/>
          <p:nvPr/>
        </p:nvGraphicFramePr>
        <p:xfrm>
          <a:off x="6041880" y="5092560"/>
          <a:ext cx="2922840" cy="65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41880" y="5092560"/>
                    <a:ext cx="29228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5280" y="2492280"/>
            <a:ext cx="8153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向量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范数          所诱导的矩阵范数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矩阵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--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范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3646440" y="2421000"/>
          <a:ext cx="92556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6440" y="2421000"/>
                    <a:ext cx="9255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4"/>
          <p:cNvGraphicFramePr/>
          <p:nvPr/>
        </p:nvGraphicFramePr>
        <p:xfrm>
          <a:off x="2411280" y="3716280"/>
          <a:ext cx="309744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716280"/>
                    <a:ext cx="309744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5"/>
          <p:cNvGraphicFramePr/>
          <p:nvPr/>
        </p:nvGraphicFramePr>
        <p:xfrm>
          <a:off x="4552920" y="5661000"/>
          <a:ext cx="78264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5661000"/>
                    <a:ext cx="782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6"/>
          <p:cNvGraphicFramePr/>
          <p:nvPr/>
        </p:nvGraphicFramePr>
        <p:xfrm>
          <a:off x="5599080" y="5661000"/>
          <a:ext cx="8193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9080" y="5661000"/>
                    <a:ext cx="8193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7"/>
          <p:cNvGraphicFramePr/>
          <p:nvPr/>
        </p:nvGraphicFramePr>
        <p:xfrm>
          <a:off x="6950160" y="5661000"/>
          <a:ext cx="853920" cy="71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50160" y="5661000"/>
                    <a:ext cx="853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5"/>
          <p:cNvSpPr/>
          <p:nvPr/>
        </p:nvSpPr>
        <p:spPr>
          <a:xfrm>
            <a:off x="1367280" y="5689440"/>
            <a:ext cx="61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用的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矩阵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--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范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         ，       和        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Object 16"/>
          <p:cNvGraphicFramePr/>
          <p:nvPr/>
        </p:nvGraphicFramePr>
        <p:xfrm>
          <a:off x="1042920" y="1341360"/>
          <a:ext cx="927000" cy="71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7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1341360"/>
                    <a:ext cx="9270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7"/>
          <p:cNvSpPr/>
          <p:nvPr/>
        </p:nvSpPr>
        <p:spPr>
          <a:xfrm>
            <a:off x="1890000" y="765000"/>
            <a:ext cx="518256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面所定义的矩阵范数称为由向量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         所诱导的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诱导范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算子范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Object 4"/>
          <p:cNvGraphicFramePr/>
          <p:nvPr/>
        </p:nvGraphicFramePr>
        <p:xfrm>
          <a:off x="2208240" y="201600"/>
          <a:ext cx="18446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201600"/>
                    <a:ext cx="18446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5"/>
          <p:cNvGraphicFramePr/>
          <p:nvPr/>
        </p:nvGraphicFramePr>
        <p:xfrm>
          <a:off x="1330200" y="692280"/>
          <a:ext cx="641052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0200" y="692280"/>
                    <a:ext cx="641052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"/>
          <p:cNvGraphicFramePr/>
          <p:nvPr/>
        </p:nvGraphicFramePr>
        <p:xfrm>
          <a:off x="4114800" y="1916280"/>
          <a:ext cx="49068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1916280"/>
                    <a:ext cx="4906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7"/>
          <p:cNvSpPr/>
          <p:nvPr/>
        </p:nvSpPr>
        <p:spPr>
          <a:xfrm>
            <a:off x="1640160" y="184464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称此范数为矩阵    的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列和范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912960" y="260280"/>
            <a:ext cx="36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                  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9"/>
          <p:cNvSpPr/>
          <p:nvPr/>
        </p:nvSpPr>
        <p:spPr>
          <a:xfrm>
            <a:off x="389160" y="104292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0"/>
          <p:cNvSpPr/>
          <p:nvPr/>
        </p:nvSpPr>
        <p:spPr>
          <a:xfrm>
            <a:off x="546840" y="2925720"/>
            <a:ext cx="16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Object 21"/>
          <p:cNvGraphicFramePr/>
          <p:nvPr/>
        </p:nvGraphicFramePr>
        <p:xfrm>
          <a:off x="2340000" y="2708280"/>
          <a:ext cx="345600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0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2708280"/>
                    <a:ext cx="3456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22"/>
          <p:cNvGraphicFramePr/>
          <p:nvPr/>
        </p:nvGraphicFramePr>
        <p:xfrm>
          <a:off x="900000" y="3789360"/>
          <a:ext cx="6193080" cy="63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2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3789360"/>
                    <a:ext cx="61930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Text Box 23"/>
          <p:cNvSpPr/>
          <p:nvPr/>
        </p:nvSpPr>
        <p:spPr>
          <a:xfrm>
            <a:off x="1322640" y="4835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24"/>
          <p:cNvGraphicFramePr/>
          <p:nvPr/>
        </p:nvGraphicFramePr>
        <p:xfrm>
          <a:off x="1908000" y="4724280"/>
          <a:ext cx="2379960" cy="8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08000" y="4724280"/>
                    <a:ext cx="2379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49"/>
          <p:cNvSpPr/>
          <p:nvPr/>
        </p:nvSpPr>
        <p:spPr>
          <a:xfrm>
            <a:off x="3875040" y="4484520"/>
            <a:ext cx="7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061"/>
          <p:cNvGraphicFramePr/>
          <p:nvPr/>
        </p:nvGraphicFramePr>
        <p:xfrm>
          <a:off x="1476360" y="2565360"/>
          <a:ext cx="632448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10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65360"/>
                    <a:ext cx="63244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062"/>
          <p:cNvGraphicFramePr/>
          <p:nvPr/>
        </p:nvGraphicFramePr>
        <p:xfrm>
          <a:off x="1403280" y="4365720"/>
          <a:ext cx="2438640" cy="63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10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365720"/>
                    <a:ext cx="243864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063"/>
          <p:cNvGraphicFramePr/>
          <p:nvPr/>
        </p:nvGraphicFramePr>
        <p:xfrm>
          <a:off x="4451400" y="4197240"/>
          <a:ext cx="243828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10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1400" y="4197240"/>
                    <a:ext cx="24382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069"/>
          <p:cNvGraphicFramePr/>
          <p:nvPr/>
        </p:nvGraphicFramePr>
        <p:xfrm>
          <a:off x="250920" y="1413000"/>
          <a:ext cx="846612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106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1413000"/>
                    <a:ext cx="84661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070"/>
          <p:cNvSpPr/>
          <p:nvPr/>
        </p:nvSpPr>
        <p:spPr>
          <a:xfrm>
            <a:off x="804600" y="117360"/>
            <a:ext cx="36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引理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ider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等式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71"/>
          <p:cNvSpPr/>
          <p:nvPr/>
        </p:nvSpPr>
        <p:spPr>
          <a:xfrm>
            <a:off x="496440" y="299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72"/>
          <p:cNvSpPr/>
          <p:nvPr/>
        </p:nvSpPr>
        <p:spPr>
          <a:xfrm>
            <a:off x="511920" y="4413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73"/>
          <p:cNvSpPr/>
          <p:nvPr/>
        </p:nvSpPr>
        <p:spPr>
          <a:xfrm>
            <a:off x="552240" y="7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074"/>
          <p:cNvGraphicFramePr/>
          <p:nvPr/>
        </p:nvGraphicFramePr>
        <p:xfrm>
          <a:off x="611280" y="5576760"/>
          <a:ext cx="1944720" cy="64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Object 107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576760"/>
                    <a:ext cx="1944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075"/>
          <p:cNvSpPr/>
          <p:nvPr/>
        </p:nvSpPr>
        <p:spPr>
          <a:xfrm>
            <a:off x="3156120" y="5580000"/>
            <a:ext cx="41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即为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chwarz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等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546480" y="316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5"/>
          <p:cNvGraphicFramePr/>
          <p:nvPr/>
        </p:nvGraphicFramePr>
        <p:xfrm>
          <a:off x="1039680" y="260280"/>
          <a:ext cx="5616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260280"/>
                    <a:ext cx="5616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6"/>
          <p:cNvGraphicFramePr/>
          <p:nvPr/>
        </p:nvGraphicFramePr>
        <p:xfrm>
          <a:off x="2192400" y="1052640"/>
          <a:ext cx="612468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0" y="1052640"/>
                    <a:ext cx="61246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7"/>
          <p:cNvGraphicFramePr/>
          <p:nvPr/>
        </p:nvGraphicFramePr>
        <p:xfrm>
          <a:off x="2200320" y="1844640"/>
          <a:ext cx="4222800" cy="8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0320" y="1844640"/>
                    <a:ext cx="42228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8"/>
          <p:cNvGraphicFramePr/>
          <p:nvPr/>
        </p:nvGraphicFramePr>
        <p:xfrm>
          <a:off x="6521400" y="1890720"/>
          <a:ext cx="1435320" cy="71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21400" y="1890720"/>
                    <a:ext cx="14353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9"/>
          <p:cNvSpPr/>
          <p:nvPr/>
        </p:nvSpPr>
        <p:spPr>
          <a:xfrm>
            <a:off x="520560" y="2849400"/>
            <a:ext cx="5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10"/>
          <p:cNvGraphicFramePr/>
          <p:nvPr/>
        </p:nvGraphicFramePr>
        <p:xfrm>
          <a:off x="1763640" y="2565360"/>
          <a:ext cx="3500640" cy="12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2565360"/>
                    <a:ext cx="3500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4"/>
          <p:cNvSpPr/>
          <p:nvPr/>
        </p:nvSpPr>
        <p:spPr>
          <a:xfrm>
            <a:off x="919080" y="4005360"/>
            <a:ext cx="12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方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9"/>
          <p:cNvGraphicFramePr/>
          <p:nvPr/>
        </p:nvGraphicFramePr>
        <p:xfrm>
          <a:off x="2771640" y="3716280"/>
          <a:ext cx="1811520" cy="11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3716280"/>
                    <a:ext cx="18115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7"/>
          <p:cNvSpPr/>
          <p:nvPr/>
        </p:nvSpPr>
        <p:spPr>
          <a:xfrm>
            <a:off x="4799520" y="393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Object 8"/>
          <p:cNvGraphicFramePr/>
          <p:nvPr/>
        </p:nvGraphicFramePr>
        <p:xfrm>
          <a:off x="5146560" y="3932280"/>
          <a:ext cx="1509840" cy="66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6560" y="3932280"/>
                    <a:ext cx="150984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9"/>
          <p:cNvGraphicFramePr/>
          <p:nvPr/>
        </p:nvGraphicFramePr>
        <p:xfrm>
          <a:off x="7164360" y="3860640"/>
          <a:ext cx="1552680" cy="75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4360" y="3860640"/>
                    <a:ext cx="15526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Text Box 10"/>
          <p:cNvSpPr/>
          <p:nvPr/>
        </p:nvSpPr>
        <p:spPr>
          <a:xfrm>
            <a:off x="6588000" y="3932280"/>
            <a:ext cx="7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11"/>
          <p:cNvGraphicFramePr/>
          <p:nvPr/>
        </p:nvGraphicFramePr>
        <p:xfrm>
          <a:off x="1403280" y="4724280"/>
          <a:ext cx="4176720" cy="125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8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03280" y="4724280"/>
                    <a:ext cx="4176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Text Box 12"/>
          <p:cNvSpPr/>
          <p:nvPr/>
        </p:nvSpPr>
        <p:spPr>
          <a:xfrm>
            <a:off x="1045800" y="6107040"/>
            <a:ext cx="26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并以上结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6"/>
          <p:cNvSpPr/>
          <p:nvPr/>
        </p:nvSpPr>
        <p:spPr>
          <a:xfrm>
            <a:off x="769680" y="5076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4"/>
          <p:cNvSpPr/>
          <p:nvPr/>
        </p:nvSpPr>
        <p:spPr>
          <a:xfrm>
            <a:off x="361800" y="1484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矩阵          的第    个特征值。我们称此范数为矩阵     的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谱范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5"/>
          <p:cNvGraphicFramePr/>
          <p:nvPr/>
        </p:nvGraphicFramePr>
        <p:xfrm>
          <a:off x="1442880" y="458640"/>
          <a:ext cx="651384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458640"/>
                    <a:ext cx="65138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6"/>
          <p:cNvGraphicFramePr/>
          <p:nvPr/>
        </p:nvGraphicFramePr>
        <p:xfrm>
          <a:off x="2052720" y="1442880"/>
          <a:ext cx="110340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2720" y="1442880"/>
                    <a:ext cx="110340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7"/>
          <p:cNvGraphicFramePr/>
          <p:nvPr/>
        </p:nvGraphicFramePr>
        <p:xfrm>
          <a:off x="4110120" y="1519200"/>
          <a:ext cx="3254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0120" y="1519200"/>
                    <a:ext cx="32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8"/>
          <p:cNvGraphicFramePr/>
          <p:nvPr/>
        </p:nvGraphicFramePr>
        <p:xfrm>
          <a:off x="2128680" y="1976400"/>
          <a:ext cx="49068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8680" y="1976400"/>
                    <a:ext cx="4906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Rectangle 13"/>
          <p:cNvSpPr/>
          <p:nvPr/>
        </p:nvSpPr>
        <p:spPr>
          <a:xfrm>
            <a:off x="389160" y="72720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1041480" y="2916360"/>
            <a:ext cx="32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              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15"/>
          <p:cNvGraphicFramePr/>
          <p:nvPr/>
        </p:nvGraphicFramePr>
        <p:xfrm>
          <a:off x="4643280" y="2313000"/>
          <a:ext cx="3457800" cy="173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3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3280" y="2313000"/>
                    <a:ext cx="34578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16"/>
          <p:cNvGraphicFramePr/>
          <p:nvPr/>
        </p:nvGraphicFramePr>
        <p:xfrm>
          <a:off x="2484360" y="2925720"/>
          <a:ext cx="1295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5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2925720"/>
                    <a:ext cx="1295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17"/>
          <p:cNvSpPr/>
          <p:nvPr/>
        </p:nvSpPr>
        <p:spPr>
          <a:xfrm>
            <a:off x="903240" y="4005360"/>
            <a:ext cx="74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ylei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商可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18"/>
          <p:cNvGraphicFramePr/>
          <p:nvPr/>
        </p:nvGraphicFramePr>
        <p:xfrm>
          <a:off x="2001960" y="4653000"/>
          <a:ext cx="5162400" cy="1382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01960" y="4653000"/>
                    <a:ext cx="51624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4"/>
          <p:cNvGraphicFramePr/>
          <p:nvPr/>
        </p:nvGraphicFramePr>
        <p:xfrm>
          <a:off x="1549440" y="476280"/>
          <a:ext cx="729936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476280"/>
                    <a:ext cx="729936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5"/>
          <p:cNvGraphicFramePr/>
          <p:nvPr/>
        </p:nvGraphicFramePr>
        <p:xfrm>
          <a:off x="4187880" y="1852560"/>
          <a:ext cx="49032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87880" y="1852560"/>
                    <a:ext cx="490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6"/>
          <p:cNvSpPr/>
          <p:nvPr/>
        </p:nvSpPr>
        <p:spPr>
          <a:xfrm>
            <a:off x="1717560" y="1844640"/>
            <a:ext cx="46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称此范数为矩阵     的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行和范数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481320" y="90648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2058840" y="3357720"/>
            <a:ext cx="37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类似于         的证明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Object 9"/>
          <p:cNvGraphicFramePr/>
          <p:nvPr/>
        </p:nvGraphicFramePr>
        <p:xfrm>
          <a:off x="3367080" y="3224160"/>
          <a:ext cx="11415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7080" y="3224160"/>
                    <a:ext cx="11415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Object 2"/>
          <p:cNvGraphicFramePr/>
          <p:nvPr/>
        </p:nvGraphicFramePr>
        <p:xfrm>
          <a:off x="179280" y="981000"/>
          <a:ext cx="269568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269568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Rectangle 3"/>
          <p:cNvSpPr/>
          <p:nvPr/>
        </p:nvSpPr>
        <p:spPr>
          <a:xfrm>
            <a:off x="3419640" y="14810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        ，       ，      和         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4"/>
          <p:cNvGraphicFramePr/>
          <p:nvPr/>
        </p:nvGraphicFramePr>
        <p:xfrm>
          <a:off x="4549680" y="1450800"/>
          <a:ext cx="75744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1450800"/>
                    <a:ext cx="75744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5"/>
          <p:cNvGraphicFramePr/>
          <p:nvPr/>
        </p:nvGraphicFramePr>
        <p:xfrm>
          <a:off x="5540400" y="1450800"/>
          <a:ext cx="79200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40400" y="1450800"/>
                    <a:ext cx="7920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6"/>
          <p:cNvGraphicFramePr/>
          <p:nvPr/>
        </p:nvGraphicFramePr>
        <p:xfrm>
          <a:off x="6531120" y="1450800"/>
          <a:ext cx="826920" cy="69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31120" y="1450800"/>
                    <a:ext cx="82692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7"/>
          <p:cNvGraphicFramePr/>
          <p:nvPr/>
        </p:nvGraphicFramePr>
        <p:xfrm>
          <a:off x="7902720" y="1450800"/>
          <a:ext cx="826920" cy="69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02720" y="1450800"/>
                    <a:ext cx="82692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8"/>
          <p:cNvGraphicFramePr/>
          <p:nvPr/>
        </p:nvGraphicFramePr>
        <p:xfrm>
          <a:off x="1476360" y="3139920"/>
          <a:ext cx="1411200" cy="69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3139920"/>
                    <a:ext cx="14112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10"/>
          <p:cNvGraphicFramePr/>
          <p:nvPr/>
        </p:nvGraphicFramePr>
        <p:xfrm>
          <a:off x="6659640" y="3068640"/>
          <a:ext cx="1515960" cy="69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59640" y="3068640"/>
                    <a:ext cx="15159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11"/>
          <p:cNvGraphicFramePr/>
          <p:nvPr/>
        </p:nvGraphicFramePr>
        <p:xfrm>
          <a:off x="3838680" y="3071880"/>
          <a:ext cx="2031840" cy="723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38680" y="3071880"/>
                    <a:ext cx="2031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Rectangle 12"/>
          <p:cNvSpPr/>
          <p:nvPr/>
        </p:nvSpPr>
        <p:spPr>
          <a:xfrm>
            <a:off x="635400" y="260280"/>
            <a:ext cx="16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例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344520" y="3141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Object 14"/>
          <p:cNvGraphicFramePr/>
          <p:nvPr/>
        </p:nvGraphicFramePr>
        <p:xfrm>
          <a:off x="6095880" y="4365720"/>
          <a:ext cx="1932120" cy="723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4365720"/>
                    <a:ext cx="19321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15"/>
          <p:cNvGraphicFramePr/>
          <p:nvPr/>
        </p:nvGraphicFramePr>
        <p:xfrm>
          <a:off x="1940040" y="3933720"/>
          <a:ext cx="2992320" cy="1833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40040" y="3933720"/>
                    <a:ext cx="299232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Rectangle 17"/>
          <p:cNvSpPr/>
          <p:nvPr/>
        </p:nvSpPr>
        <p:spPr>
          <a:xfrm>
            <a:off x="971640" y="4211640"/>
            <a:ext cx="12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016600" y="4251240"/>
            <a:ext cx="10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Object 6"/>
          <p:cNvGraphicFramePr/>
          <p:nvPr/>
        </p:nvGraphicFramePr>
        <p:xfrm>
          <a:off x="419040" y="1192320"/>
          <a:ext cx="324324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1192320"/>
                    <a:ext cx="324324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7"/>
          <p:cNvGraphicFramePr/>
          <p:nvPr/>
        </p:nvGraphicFramePr>
        <p:xfrm>
          <a:off x="5003640" y="1200240"/>
          <a:ext cx="2981520" cy="22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200240"/>
                    <a:ext cx="29815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9"/>
          <p:cNvSpPr/>
          <p:nvPr/>
        </p:nvSpPr>
        <p:spPr>
          <a:xfrm>
            <a:off x="349200" y="569880"/>
            <a:ext cx="23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练习  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15008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395280" y="3716280"/>
            <a:ext cx="756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计算这两个矩阵的        ，         ，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          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Object 12"/>
          <p:cNvGraphicFramePr/>
          <p:nvPr/>
        </p:nvGraphicFramePr>
        <p:xfrm>
          <a:off x="5653080" y="3741840"/>
          <a:ext cx="963720" cy="83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3080" y="3741840"/>
                    <a:ext cx="9637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13"/>
          <p:cNvGraphicFramePr/>
          <p:nvPr/>
        </p:nvGraphicFramePr>
        <p:xfrm>
          <a:off x="4586400" y="3741840"/>
          <a:ext cx="920520" cy="83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86400" y="3741840"/>
                    <a:ext cx="9205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14"/>
          <p:cNvGraphicFramePr/>
          <p:nvPr/>
        </p:nvGraphicFramePr>
        <p:xfrm>
          <a:off x="7024680" y="3741840"/>
          <a:ext cx="1004760" cy="83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4680" y="3741840"/>
                    <a:ext cx="100476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15"/>
          <p:cNvGraphicFramePr/>
          <p:nvPr/>
        </p:nvGraphicFramePr>
        <p:xfrm>
          <a:off x="974880" y="4508640"/>
          <a:ext cx="1004760" cy="83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4880" y="4508640"/>
                    <a:ext cx="100476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Object 8"/>
          <p:cNvGraphicFramePr/>
          <p:nvPr/>
        </p:nvGraphicFramePr>
        <p:xfrm>
          <a:off x="5684760" y="623880"/>
          <a:ext cx="18446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760" y="623880"/>
                    <a:ext cx="18446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9"/>
          <p:cNvGraphicFramePr/>
          <p:nvPr/>
        </p:nvGraphicFramePr>
        <p:xfrm>
          <a:off x="1979640" y="1484280"/>
          <a:ext cx="4711680" cy="38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484280"/>
                    <a:ext cx="47116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Rectangle 10"/>
          <p:cNvSpPr/>
          <p:nvPr/>
        </p:nvSpPr>
        <p:spPr>
          <a:xfrm>
            <a:off x="1585800" y="720720"/>
            <a:ext cx="58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例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对于任何矩阵                 都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324000" y="2708280"/>
            <a:ext cx="83055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证明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任意的非零向量      ，定义向量范数                            ，容易验证此定义满足向量范数的三个性质，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Object 7"/>
          <p:cNvGraphicFramePr/>
          <p:nvPr/>
        </p:nvGraphicFramePr>
        <p:xfrm>
          <a:off x="2386080" y="981000"/>
          <a:ext cx="87624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981000"/>
                    <a:ext cx="8762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8"/>
          <p:cNvGraphicFramePr/>
          <p:nvPr/>
        </p:nvGraphicFramePr>
        <p:xfrm>
          <a:off x="633240" y="1620720"/>
          <a:ext cx="83844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240" y="1620720"/>
                    <a:ext cx="8384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9"/>
          <p:cNvGraphicFramePr/>
          <p:nvPr/>
        </p:nvGraphicFramePr>
        <p:xfrm>
          <a:off x="3059280" y="1909800"/>
          <a:ext cx="295272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1909800"/>
                    <a:ext cx="295272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10"/>
          <p:cNvGraphicFramePr/>
          <p:nvPr/>
        </p:nvGraphicFramePr>
        <p:xfrm>
          <a:off x="5483160" y="2874960"/>
          <a:ext cx="47952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3160" y="2874960"/>
                    <a:ext cx="4795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12"/>
          <p:cNvGraphicFramePr/>
          <p:nvPr/>
        </p:nvGraphicFramePr>
        <p:xfrm>
          <a:off x="1000080" y="3365640"/>
          <a:ext cx="2563920" cy="85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3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3365640"/>
                    <a:ext cx="25639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3"/>
          <p:cNvSpPr/>
          <p:nvPr/>
        </p:nvSpPr>
        <p:spPr>
          <a:xfrm>
            <a:off x="1692360" y="260280"/>
            <a:ext cx="59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何由矩阵范数构造与之相容的向量范数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4"/>
          <p:cNvSpPr/>
          <p:nvPr/>
        </p:nvSpPr>
        <p:spPr>
          <a:xfrm>
            <a:off x="368280" y="981000"/>
            <a:ext cx="8451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           是矩阵范数，则存在向量范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Object 15"/>
          <p:cNvGraphicFramePr/>
          <p:nvPr/>
        </p:nvGraphicFramePr>
        <p:xfrm>
          <a:off x="611280" y="4869000"/>
          <a:ext cx="7605720" cy="84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4869000"/>
                    <a:ext cx="7605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808200" y="360360"/>
            <a:ext cx="57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矩阵范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Object 4"/>
          <p:cNvGraphicFramePr/>
          <p:nvPr/>
        </p:nvGraphicFramePr>
        <p:xfrm>
          <a:off x="2789280" y="692280"/>
          <a:ext cx="4446720" cy="14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9280" y="692280"/>
                    <a:ext cx="44467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5"/>
          <p:cNvGraphicFramePr/>
          <p:nvPr/>
        </p:nvGraphicFramePr>
        <p:xfrm>
          <a:off x="2416320" y="3135240"/>
          <a:ext cx="381312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6320" y="3135240"/>
                    <a:ext cx="38131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2268360" y="3881520"/>
          <a:ext cx="4967640" cy="91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881520"/>
                    <a:ext cx="49676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7"/>
          <p:cNvGraphicFramePr/>
          <p:nvPr/>
        </p:nvGraphicFramePr>
        <p:xfrm>
          <a:off x="2124000" y="5105520"/>
          <a:ext cx="5616720" cy="13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5105520"/>
                    <a:ext cx="561672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Rectangle 8"/>
          <p:cNvSpPr/>
          <p:nvPr/>
        </p:nvSpPr>
        <p:spPr>
          <a:xfrm>
            <a:off x="1307160" y="465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9"/>
          <p:cNvSpPr/>
          <p:nvPr/>
        </p:nvSpPr>
        <p:spPr>
          <a:xfrm>
            <a:off x="1579320" y="3213000"/>
            <a:ext cx="49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取                                  。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8"/>
          <p:cNvSpPr/>
          <p:nvPr/>
        </p:nvSpPr>
        <p:spPr>
          <a:xfrm>
            <a:off x="971640" y="2133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与之相容的一个向量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图片 2" descr="图片包含 游戏机, 钟表, 桌子&#10;&#10;描述已自动生成"/>
          <p:cNvPicPr/>
          <p:nvPr/>
        </p:nvPicPr>
        <p:blipFill>
          <a:blip r:embed="rId1"/>
          <a:stretch/>
        </p:blipFill>
        <p:spPr>
          <a:xfrm>
            <a:off x="468360" y="692280"/>
            <a:ext cx="6056280" cy="85860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4" descr=""/>
          <p:cNvPicPr/>
          <p:nvPr/>
        </p:nvPicPr>
        <p:blipFill>
          <a:blip r:embed="rId2"/>
          <a:stretch/>
        </p:blipFill>
        <p:spPr>
          <a:xfrm>
            <a:off x="209520" y="1700280"/>
            <a:ext cx="5226120" cy="601560"/>
          </a:xfrm>
          <a:prstGeom prst="rect">
            <a:avLst/>
          </a:prstGeom>
          <a:ln w="0">
            <a:noFill/>
          </a:ln>
        </p:spPr>
      </p:pic>
      <p:pic>
        <p:nvPicPr>
          <p:cNvPr id="652" name="图片 5" descr=""/>
          <p:cNvPicPr/>
          <p:nvPr/>
        </p:nvPicPr>
        <p:blipFill>
          <a:blip r:embed="rId3"/>
          <a:stretch/>
        </p:blipFill>
        <p:spPr>
          <a:xfrm>
            <a:off x="5481720" y="1757520"/>
            <a:ext cx="2619360" cy="519120"/>
          </a:xfrm>
          <a:prstGeom prst="rect">
            <a:avLst/>
          </a:prstGeom>
          <a:ln w="0">
            <a:noFill/>
          </a:ln>
        </p:spPr>
      </p:pic>
      <p:pic>
        <p:nvPicPr>
          <p:cNvPr id="653" name="图片 6" descr=""/>
          <p:cNvPicPr/>
          <p:nvPr/>
        </p:nvPicPr>
        <p:blipFill>
          <a:blip r:embed="rId4"/>
          <a:stretch/>
        </p:blipFill>
        <p:spPr>
          <a:xfrm>
            <a:off x="611280" y="2433600"/>
            <a:ext cx="7416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2" descr="图片包含 游戏机, 物体, 钟表&#10;&#10;描述已自动生成"/>
          <p:cNvPicPr/>
          <p:nvPr/>
        </p:nvPicPr>
        <p:blipFill>
          <a:blip r:embed="rId1"/>
          <a:stretch/>
        </p:blipFill>
        <p:spPr>
          <a:xfrm>
            <a:off x="293760" y="476280"/>
            <a:ext cx="5695920" cy="100800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4" descr="手机屏幕截图&#10;&#10;描述已自动生成"/>
          <p:cNvPicPr/>
          <p:nvPr/>
        </p:nvPicPr>
        <p:blipFill>
          <a:blip r:embed="rId2"/>
          <a:stretch/>
        </p:blipFill>
        <p:spPr>
          <a:xfrm>
            <a:off x="1042920" y="1557360"/>
            <a:ext cx="63658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4"/>
          <p:cNvGraphicFramePr/>
          <p:nvPr/>
        </p:nvGraphicFramePr>
        <p:xfrm>
          <a:off x="395280" y="1989000"/>
          <a:ext cx="846612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46612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468360" y="3645000"/>
          <a:ext cx="837720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3645000"/>
                    <a:ext cx="83772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250920" y="47628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引理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kowski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等式）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34800" y="29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28240" y="1125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9"/>
          <p:cNvGraphicFramePr/>
          <p:nvPr/>
        </p:nvGraphicFramePr>
        <p:xfrm>
          <a:off x="2146320" y="5349960"/>
          <a:ext cx="104940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6320" y="5349960"/>
                    <a:ext cx="1049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10"/>
          <p:cNvSpPr/>
          <p:nvPr/>
        </p:nvSpPr>
        <p:spPr>
          <a:xfrm>
            <a:off x="844920" y="53737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中实数           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图片 1" descr=""/>
          <p:cNvPicPr/>
          <p:nvPr/>
        </p:nvPicPr>
        <p:blipFill>
          <a:blip r:embed="rId1"/>
          <a:stretch/>
        </p:blipFill>
        <p:spPr>
          <a:xfrm>
            <a:off x="312840" y="1052640"/>
            <a:ext cx="8540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68360" y="1628640"/>
            <a:ext cx="8001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 ，    的     个特征值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我们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Object 4"/>
          <p:cNvGraphicFramePr/>
          <p:nvPr/>
        </p:nvGraphicFramePr>
        <p:xfrm>
          <a:off x="2327400" y="1684440"/>
          <a:ext cx="176184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1684440"/>
                    <a:ext cx="176184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5"/>
          <p:cNvGraphicFramePr/>
          <p:nvPr/>
        </p:nvGraphicFramePr>
        <p:xfrm>
          <a:off x="5486400" y="1836720"/>
          <a:ext cx="41904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836720"/>
                    <a:ext cx="41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6"/>
          <p:cNvGraphicFramePr/>
          <p:nvPr/>
        </p:nvGraphicFramePr>
        <p:xfrm>
          <a:off x="4495680" y="1760400"/>
          <a:ext cx="492120" cy="5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1760400"/>
                    <a:ext cx="4921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7"/>
          <p:cNvGraphicFramePr/>
          <p:nvPr/>
        </p:nvGraphicFramePr>
        <p:xfrm>
          <a:off x="609480" y="2293920"/>
          <a:ext cx="2362320" cy="73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2293920"/>
                    <a:ext cx="2362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8"/>
          <p:cNvGraphicFramePr/>
          <p:nvPr/>
        </p:nvGraphicFramePr>
        <p:xfrm>
          <a:off x="1447920" y="3000240"/>
          <a:ext cx="60195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3000240"/>
                    <a:ext cx="60195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Object 9"/>
          <p:cNvGraphicFramePr/>
          <p:nvPr/>
        </p:nvGraphicFramePr>
        <p:xfrm>
          <a:off x="1828800" y="3976560"/>
          <a:ext cx="492120" cy="532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3976560"/>
                    <a:ext cx="4921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Rectangle 12"/>
          <p:cNvSpPr/>
          <p:nvPr/>
        </p:nvSpPr>
        <p:spPr>
          <a:xfrm>
            <a:off x="2886120" y="4176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Arial"/>
              </a:rPr>
              <a:t>矩阵的谱半径及其性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8"/>
          <p:cNvSpPr/>
          <p:nvPr/>
        </p:nvSpPr>
        <p:spPr>
          <a:xfrm>
            <a:off x="1087560" y="392436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矩阵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谱半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2" name="Object 4"/>
          <p:cNvGraphicFramePr/>
          <p:nvPr/>
        </p:nvGraphicFramePr>
        <p:xfrm>
          <a:off x="2843280" y="306360"/>
          <a:ext cx="176220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06360"/>
                    <a:ext cx="17622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Rectangle 5"/>
          <p:cNvSpPr/>
          <p:nvPr/>
        </p:nvSpPr>
        <p:spPr>
          <a:xfrm>
            <a:off x="1184760" y="404640"/>
            <a:ext cx="44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设                   ，那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Object 6"/>
          <p:cNvGraphicFramePr/>
          <p:nvPr/>
        </p:nvGraphicFramePr>
        <p:xfrm>
          <a:off x="2987640" y="981000"/>
          <a:ext cx="240840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981000"/>
                    <a:ext cx="24084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7"/>
          <p:cNvGraphicFramePr/>
          <p:nvPr/>
        </p:nvGraphicFramePr>
        <p:xfrm>
          <a:off x="2027160" y="1714680"/>
          <a:ext cx="797040" cy="83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27160" y="1714680"/>
                    <a:ext cx="79704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8"/>
          <p:cNvGraphicFramePr/>
          <p:nvPr/>
        </p:nvGraphicFramePr>
        <p:xfrm>
          <a:off x="4084560" y="1866960"/>
          <a:ext cx="49212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84560" y="1866960"/>
                    <a:ext cx="492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Rectangle 9"/>
          <p:cNvSpPr/>
          <p:nvPr/>
        </p:nvSpPr>
        <p:spPr>
          <a:xfrm>
            <a:off x="2009520" y="1844640"/>
            <a:ext cx="48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         是矩阵     的任何一种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974880" y="2781360"/>
            <a:ext cx="14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Object 11"/>
          <p:cNvGraphicFramePr/>
          <p:nvPr/>
        </p:nvGraphicFramePr>
        <p:xfrm>
          <a:off x="2627280" y="2781360"/>
          <a:ext cx="3017880" cy="67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781360"/>
                    <a:ext cx="30178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12"/>
          <p:cNvGraphicFramePr/>
          <p:nvPr/>
        </p:nvGraphicFramePr>
        <p:xfrm>
          <a:off x="2050920" y="3573360"/>
          <a:ext cx="5268960" cy="76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3573360"/>
                    <a:ext cx="5268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Text Box 13"/>
          <p:cNvSpPr/>
          <p:nvPr/>
        </p:nvSpPr>
        <p:spPr>
          <a:xfrm>
            <a:off x="1467360" y="3611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Object 14"/>
          <p:cNvGraphicFramePr/>
          <p:nvPr/>
        </p:nvGraphicFramePr>
        <p:xfrm>
          <a:off x="2843280" y="4581360"/>
          <a:ext cx="1620720" cy="766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43280" y="4581360"/>
                    <a:ext cx="16207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Text Box 15"/>
          <p:cNvSpPr/>
          <p:nvPr/>
        </p:nvSpPr>
        <p:spPr>
          <a:xfrm>
            <a:off x="1486440" y="45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1825560" y="544500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式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任何特征值均成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而结论成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3"/>
          <p:cNvSpPr/>
          <p:nvPr/>
        </p:nvSpPr>
        <p:spPr>
          <a:xfrm>
            <a:off x="660240" y="290520"/>
            <a:ext cx="65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设      是一个正规矩阵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Object 6"/>
          <p:cNvGraphicFramePr/>
          <p:nvPr/>
        </p:nvGraphicFramePr>
        <p:xfrm>
          <a:off x="2639880" y="295200"/>
          <a:ext cx="4921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95200"/>
                    <a:ext cx="492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7"/>
          <p:cNvGraphicFramePr/>
          <p:nvPr/>
        </p:nvGraphicFramePr>
        <p:xfrm>
          <a:off x="3011400" y="905040"/>
          <a:ext cx="258120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1400" y="905040"/>
                    <a:ext cx="25812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8"/>
          <p:cNvGraphicFramePr/>
          <p:nvPr/>
        </p:nvGraphicFramePr>
        <p:xfrm>
          <a:off x="1116000" y="2276640"/>
          <a:ext cx="7129440" cy="229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276640"/>
                    <a:ext cx="712944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Rectangle 10"/>
          <p:cNvSpPr/>
          <p:nvPr/>
        </p:nvSpPr>
        <p:spPr>
          <a:xfrm>
            <a:off x="939960" y="1874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Object 11"/>
          <p:cNvGraphicFramePr/>
          <p:nvPr/>
        </p:nvGraphicFramePr>
        <p:xfrm>
          <a:off x="3203640" y="5229360"/>
          <a:ext cx="26956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5229360"/>
                    <a:ext cx="26956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Rectangle 12"/>
          <p:cNvSpPr/>
          <p:nvPr/>
        </p:nvSpPr>
        <p:spPr>
          <a:xfrm>
            <a:off x="1880640" y="4940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0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369720" y="33336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设      是          上的相容矩阵范数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Object 4"/>
          <p:cNvGraphicFramePr/>
          <p:nvPr/>
        </p:nvGraphicFramePr>
        <p:xfrm>
          <a:off x="2344680" y="341280"/>
          <a:ext cx="4078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341280"/>
                    <a:ext cx="4078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Object 5"/>
          <p:cNvGraphicFramePr/>
          <p:nvPr/>
        </p:nvGraphicFramePr>
        <p:xfrm>
          <a:off x="3335400" y="333360"/>
          <a:ext cx="80640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5400" y="333360"/>
                    <a:ext cx="8064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Object 6"/>
          <p:cNvGraphicFramePr/>
          <p:nvPr/>
        </p:nvGraphicFramePr>
        <p:xfrm>
          <a:off x="1536840" y="992160"/>
          <a:ext cx="127620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6840" y="992160"/>
                    <a:ext cx="127620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7"/>
          <p:cNvGraphicFramePr/>
          <p:nvPr/>
        </p:nvGraphicFramePr>
        <p:xfrm>
          <a:off x="1547640" y="1727280"/>
          <a:ext cx="417600" cy="4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1727280"/>
                    <a:ext cx="417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8"/>
          <p:cNvGraphicFramePr/>
          <p:nvPr/>
        </p:nvGraphicFramePr>
        <p:xfrm>
          <a:off x="4367160" y="1735200"/>
          <a:ext cx="40320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67160" y="1735200"/>
                    <a:ext cx="403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9"/>
          <p:cNvGraphicFramePr/>
          <p:nvPr/>
        </p:nvGraphicFramePr>
        <p:xfrm>
          <a:off x="5281560" y="1727280"/>
          <a:ext cx="41760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1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1560" y="1727280"/>
                    <a:ext cx="417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10"/>
          <p:cNvGraphicFramePr/>
          <p:nvPr/>
        </p:nvGraphicFramePr>
        <p:xfrm>
          <a:off x="2565360" y="2276640"/>
          <a:ext cx="3375000" cy="92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1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65360" y="2276640"/>
                    <a:ext cx="33750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Rectangle 12"/>
          <p:cNvSpPr/>
          <p:nvPr/>
        </p:nvSpPr>
        <p:spPr>
          <a:xfrm>
            <a:off x="398160" y="996840"/>
            <a:ext cx="10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3"/>
          <p:cNvSpPr/>
          <p:nvPr/>
        </p:nvSpPr>
        <p:spPr>
          <a:xfrm>
            <a:off x="395280" y="1646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为可逆矩阵，   为     的特征值则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4"/>
          <p:cNvSpPr/>
          <p:nvPr/>
        </p:nvSpPr>
        <p:spPr>
          <a:xfrm>
            <a:off x="7759800" y="333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1238760" y="3274920"/>
            <a:ext cx="53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                          可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16"/>
          <p:cNvGraphicFramePr/>
          <p:nvPr/>
        </p:nvGraphicFramePr>
        <p:xfrm>
          <a:off x="3168720" y="3284640"/>
          <a:ext cx="2627280" cy="73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3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68720" y="3284640"/>
                    <a:ext cx="262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17"/>
          <p:cNvGraphicFramePr/>
          <p:nvPr/>
        </p:nvGraphicFramePr>
        <p:xfrm>
          <a:off x="2340000" y="4076640"/>
          <a:ext cx="2992320" cy="768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5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40000" y="4076640"/>
                    <a:ext cx="29923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6" name="Text Box 18"/>
          <p:cNvSpPr/>
          <p:nvPr/>
        </p:nvSpPr>
        <p:spPr>
          <a:xfrm>
            <a:off x="1128960" y="4140360"/>
            <a:ext cx="12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105444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Object 20"/>
          <p:cNvGraphicFramePr/>
          <p:nvPr/>
        </p:nvGraphicFramePr>
        <p:xfrm>
          <a:off x="1692360" y="4883040"/>
          <a:ext cx="6134040" cy="92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9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92360" y="4883040"/>
                    <a:ext cx="61340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Text Box 21"/>
          <p:cNvSpPr/>
          <p:nvPr/>
        </p:nvSpPr>
        <p:spPr>
          <a:xfrm>
            <a:off x="1249920" y="5950080"/>
            <a:ext cx="13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得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569440" cy="64152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2" descr=""/>
          <p:cNvPicPr/>
          <p:nvPr/>
        </p:nvPicPr>
        <p:blipFill>
          <a:blip r:embed="rId2"/>
          <a:stretch/>
        </p:blipFill>
        <p:spPr>
          <a:xfrm>
            <a:off x="736560" y="1197000"/>
            <a:ext cx="675324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4"/>
          <p:cNvGraphicFramePr/>
          <p:nvPr/>
        </p:nvGraphicFramePr>
        <p:xfrm>
          <a:off x="2359080" y="709560"/>
          <a:ext cx="41904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9080" y="709560"/>
                    <a:ext cx="41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4950000" y="557280"/>
          <a:ext cx="6094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55728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6"/>
          <p:cNvGraphicFramePr/>
          <p:nvPr/>
        </p:nvGraphicFramePr>
        <p:xfrm>
          <a:off x="1596960" y="1014480"/>
          <a:ext cx="4496040" cy="7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96960" y="1014480"/>
                    <a:ext cx="44960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7"/>
          <p:cNvGraphicFramePr/>
          <p:nvPr/>
        </p:nvGraphicFramePr>
        <p:xfrm>
          <a:off x="2130480" y="1665360"/>
          <a:ext cx="4038480" cy="33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0480" y="1665360"/>
                    <a:ext cx="403848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8"/>
          <p:cNvSpPr/>
          <p:nvPr/>
        </p:nvSpPr>
        <p:spPr>
          <a:xfrm>
            <a:off x="1731960" y="620640"/>
            <a:ext cx="546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</a:rPr>
              <a:t>例   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在     维线性空间      中，对于任意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量                                         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4405320" y="52308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是     上的范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5313240" y="5210280"/>
          <a:ext cx="6098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13240" y="521028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1403280" y="5084640"/>
          <a:ext cx="3103560" cy="83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5084640"/>
                    <a:ext cx="310356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12"/>
          <p:cNvSpPr/>
          <p:nvPr/>
        </p:nvSpPr>
        <p:spPr>
          <a:xfrm>
            <a:off x="910080" y="522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1066680" y="3402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8"/>
          <p:cNvSpPr/>
          <p:nvPr/>
        </p:nvSpPr>
        <p:spPr>
          <a:xfrm>
            <a:off x="468360" y="14842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向量                                      ，对任意的数            ，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向量      的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范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9"/>
          <p:cNvGraphicFramePr/>
          <p:nvPr/>
        </p:nvGraphicFramePr>
        <p:xfrm>
          <a:off x="2971800" y="4011480"/>
          <a:ext cx="74916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011480"/>
                    <a:ext cx="749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30"/>
          <p:cNvGraphicFramePr/>
          <p:nvPr/>
        </p:nvGraphicFramePr>
        <p:xfrm>
          <a:off x="3276720" y="1268280"/>
          <a:ext cx="3686040" cy="8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68280"/>
                    <a:ext cx="3686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31"/>
          <p:cNvGraphicFramePr/>
          <p:nvPr/>
        </p:nvGraphicFramePr>
        <p:xfrm>
          <a:off x="1981080" y="2030400"/>
          <a:ext cx="104940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030400"/>
                    <a:ext cx="10494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2"/>
          <p:cNvGraphicFramePr/>
          <p:nvPr/>
        </p:nvGraphicFramePr>
        <p:xfrm>
          <a:off x="2514600" y="2563920"/>
          <a:ext cx="403848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2563920"/>
                    <a:ext cx="40384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3"/>
          <p:cNvGraphicFramePr/>
          <p:nvPr/>
        </p:nvGraphicFramePr>
        <p:xfrm>
          <a:off x="1908000" y="4005360"/>
          <a:ext cx="50328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8000" y="4005360"/>
                    <a:ext cx="503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38"/>
          <p:cNvSpPr/>
          <p:nvPr/>
        </p:nvSpPr>
        <p:spPr>
          <a:xfrm>
            <a:off x="2858760" y="423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194d"/>
                </a:solidFill>
                <a:latin typeface="Arial"/>
              </a:rPr>
              <a:t>几种常用的范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1458360" y="4941720"/>
            <a:ext cx="6466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负性、齐次性显然，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kowsk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等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证明三角不等式成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4"/>
          <p:cNvSpPr/>
          <p:nvPr/>
        </p:nvSpPr>
        <p:spPr>
          <a:xfrm>
            <a:off x="900000" y="2997360"/>
            <a:ext cx="28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－范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25"/>
          <p:cNvGraphicFramePr/>
          <p:nvPr/>
        </p:nvGraphicFramePr>
        <p:xfrm>
          <a:off x="1967040" y="3530520"/>
          <a:ext cx="563868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3530520"/>
                    <a:ext cx="56386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26"/>
          <p:cNvGraphicFramePr/>
          <p:nvPr/>
        </p:nvGraphicFramePr>
        <p:xfrm>
          <a:off x="1943280" y="5618160"/>
          <a:ext cx="60948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3280" y="5618160"/>
                    <a:ext cx="6094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8"/>
          <p:cNvGraphicFramePr/>
          <p:nvPr/>
        </p:nvGraphicFramePr>
        <p:xfrm>
          <a:off x="3924360" y="5514840"/>
          <a:ext cx="273996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5514840"/>
                    <a:ext cx="27399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34"/>
          <p:cNvSpPr/>
          <p:nvPr/>
        </p:nvSpPr>
        <p:spPr>
          <a:xfrm>
            <a:off x="1235160" y="555480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范数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1624320" y="479412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欧氏范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36"/>
          <p:cNvGraphicFramePr/>
          <p:nvPr/>
        </p:nvGraphicFramePr>
        <p:xfrm>
          <a:off x="1976400" y="723960"/>
          <a:ext cx="74916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6400" y="723960"/>
                    <a:ext cx="7491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8"/>
          <p:cNvSpPr/>
          <p:nvPr/>
        </p:nvSpPr>
        <p:spPr>
          <a:xfrm>
            <a:off x="1131840" y="620640"/>
            <a:ext cx="23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用的       范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0"/>
          <p:cNvGrpSpPr/>
          <p:nvPr/>
        </p:nvGrpSpPr>
        <p:grpSpPr>
          <a:xfrm>
            <a:off x="1116000" y="1484280"/>
            <a:ext cx="5011920" cy="1328760"/>
            <a:chOff x="1116000" y="1484280"/>
            <a:chExt cx="5011920" cy="1328760"/>
          </a:xfrm>
        </p:grpSpPr>
        <p:graphicFrame>
          <p:nvGraphicFramePr>
            <p:cNvPr id="145" name="Object 37"/>
            <p:cNvGraphicFramePr/>
            <p:nvPr/>
          </p:nvGraphicFramePr>
          <p:xfrm>
            <a:off x="3708360" y="1484280"/>
            <a:ext cx="2419560" cy="1328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Object 3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08360" y="1484280"/>
                      <a:ext cx="2419560" cy="13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Rectangle 39"/>
            <p:cNvSpPr/>
            <p:nvPr/>
          </p:nvSpPr>
          <p:spPr>
            <a:xfrm>
              <a:off x="1116000" y="1917720"/>
              <a:ext cx="22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－范数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4"/>
          <p:cNvGraphicFramePr/>
          <p:nvPr/>
        </p:nvGraphicFramePr>
        <p:xfrm>
          <a:off x="2268360" y="-27000"/>
          <a:ext cx="3276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-27000"/>
                    <a:ext cx="3276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5"/>
          <p:cNvGraphicFramePr/>
          <p:nvPr/>
        </p:nvGraphicFramePr>
        <p:xfrm>
          <a:off x="2050920" y="1197000"/>
          <a:ext cx="217656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21765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6"/>
          <p:cNvSpPr/>
          <p:nvPr/>
        </p:nvSpPr>
        <p:spPr>
          <a:xfrm>
            <a:off x="684360" y="117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57096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证明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003320" y="18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定理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887840" y="1198440"/>
            <a:ext cx="30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令                    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2"/>
          <p:cNvGraphicFramePr/>
          <p:nvPr/>
        </p:nvGraphicFramePr>
        <p:xfrm>
          <a:off x="5148360" y="907920"/>
          <a:ext cx="3744720" cy="11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907920"/>
                    <a:ext cx="37447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13"/>
          <p:cNvSpPr/>
          <p:nvPr/>
        </p:nvSpPr>
        <p:spPr>
          <a:xfrm>
            <a:off x="1547640" y="23511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14"/>
          <p:cNvGraphicFramePr/>
          <p:nvPr/>
        </p:nvGraphicFramePr>
        <p:xfrm>
          <a:off x="2916360" y="1989000"/>
          <a:ext cx="3959280" cy="139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1989000"/>
                    <a:ext cx="39592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1"/>
          <p:cNvGraphicFramePr/>
          <p:nvPr/>
        </p:nvGraphicFramePr>
        <p:xfrm>
          <a:off x="2401920" y="4478400"/>
          <a:ext cx="3673440" cy="145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1920" y="4478400"/>
                    <a:ext cx="367344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7"/>
          <p:cNvGraphicFramePr/>
          <p:nvPr/>
        </p:nvGraphicFramePr>
        <p:xfrm>
          <a:off x="2548080" y="5842080"/>
          <a:ext cx="5811840" cy="97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8080" y="5842080"/>
                    <a:ext cx="5811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1393920" y="479736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077840" y="595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此可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8"/>
          <p:cNvGraphicFramePr/>
          <p:nvPr/>
        </p:nvGraphicFramePr>
        <p:xfrm>
          <a:off x="2690640" y="3213000"/>
          <a:ext cx="6274080" cy="1247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90640" y="3213000"/>
                    <a:ext cx="62740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9"/>
          <p:cNvSpPr/>
          <p:nvPr/>
        </p:nvSpPr>
        <p:spPr>
          <a:xfrm>
            <a:off x="1153800" y="3500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另一方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7"/>
          <p:cNvSpPr/>
          <p:nvPr/>
        </p:nvSpPr>
        <p:spPr>
          <a:xfrm>
            <a:off x="755640" y="47628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       是     维线性空间  上定义的两种向量范数，如果存在两个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关的正数               使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9"/>
          <p:cNvGraphicFramePr/>
          <p:nvPr/>
        </p:nvGraphicFramePr>
        <p:xfrm>
          <a:off x="5486400" y="665280"/>
          <a:ext cx="41904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665280"/>
                    <a:ext cx="41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40"/>
          <p:cNvGraphicFramePr/>
          <p:nvPr/>
        </p:nvGraphicFramePr>
        <p:xfrm>
          <a:off x="7956720" y="620640"/>
          <a:ext cx="502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620640"/>
                    <a:ext cx="502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41"/>
          <p:cNvGraphicFramePr/>
          <p:nvPr/>
        </p:nvGraphicFramePr>
        <p:xfrm>
          <a:off x="2700360" y="420840"/>
          <a:ext cx="2286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20840"/>
                    <a:ext cx="2286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42"/>
          <p:cNvGraphicFramePr/>
          <p:nvPr/>
        </p:nvGraphicFramePr>
        <p:xfrm>
          <a:off x="914400" y="1932120"/>
          <a:ext cx="50328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Object 4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1932120"/>
                    <a:ext cx="503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3"/>
          <p:cNvGraphicFramePr/>
          <p:nvPr/>
        </p:nvGraphicFramePr>
        <p:xfrm>
          <a:off x="3454560" y="1832040"/>
          <a:ext cx="1549080" cy="66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Object 4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4560" y="1832040"/>
                    <a:ext cx="15490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4"/>
          <p:cNvGraphicFramePr/>
          <p:nvPr/>
        </p:nvGraphicFramePr>
        <p:xfrm>
          <a:off x="1523880" y="2857680"/>
          <a:ext cx="6354720" cy="77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2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3880" y="2857680"/>
                    <a:ext cx="63547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47"/>
          <p:cNvSpPr/>
          <p:nvPr/>
        </p:nvSpPr>
        <p:spPr>
          <a:xfrm>
            <a:off x="1231200" y="3740040"/>
            <a:ext cx="36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称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48"/>
          <p:cNvGraphicFramePr/>
          <p:nvPr/>
        </p:nvGraphicFramePr>
        <p:xfrm>
          <a:off x="1692360" y="3732120"/>
          <a:ext cx="2286000" cy="776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Object 4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2360" y="3732120"/>
                    <a:ext cx="228600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06:20:15Z</dcterms:created>
  <dc:creator>luolh</dc:creator>
  <dc:description/>
  <dc:language>en-US</dc:language>
  <cp:lastModifiedBy>Luo Liuhong</cp:lastModifiedBy>
  <dcterms:modified xsi:type="dcterms:W3CDTF">2020-02-02T13:22:06Z</dcterms:modified>
  <cp:revision>903</cp:revision>
  <dc:subject/>
  <dc:title>没有幻灯片标题</dc:title>
</cp:coreProperties>
</file>